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D69-B6CA-4B2D-950F-47A204EA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6CE8-E2A0-46B0-9BE2-89DDB836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F40D-7C2A-4300-94EC-C2FEF99C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8EC8-4B16-4296-8C7E-8749C70D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1199-94B9-4132-9129-23FA0B83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31F-B321-43E8-A94C-C37540E2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D8C-B637-484D-8201-FCE574DE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692-F732-4D84-B993-B38BD6D2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734D-78BE-4FEC-A502-E331CDA5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168-77AA-472B-9CB3-2BBA3370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98C-1346-40B9-9952-33AA5976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1A01-A0B8-4D73-B4D1-3E47E35C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DFE5-2951-47A5-8153-12643216A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12: Integers - Cours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subtract inte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5 + (-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 + -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2 +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7 + 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31920" y="1776240"/>
            <a:ext cx="2894040" cy="1492560"/>
          </a:xfrm>
          <a:custGeom>
            <a:avLst/>
            <a:gdLst/>
            <a:ahLst/>
            <a:rect l="l" t="t" r="r" b="b"/>
            <a:pathLst>
              <a:path w="8038" h="4144">
                <a:moveTo>
                  <a:pt x="9723" y="4961"/>
                </a:moveTo>
                <a:cubicBezTo>
                  <a:pt x="9704" y="4903"/>
                  <a:pt x="9634" y="4939"/>
                  <a:pt x="9599" y="4986"/>
                </a:cubicBezTo>
                <a:cubicBezTo>
                  <a:pt x="9516" y="5098"/>
                  <a:pt x="9494" y="5224"/>
                  <a:pt x="9475" y="5358"/>
                </a:cubicBezTo>
                <a:cubicBezTo>
                  <a:pt x="9574" y="5338"/>
                  <a:pt x="9640" y="5290"/>
                  <a:pt x="9748" y="5283"/>
                </a:cubicBezTo>
                <a:cubicBezTo>
                  <a:pt x="9957" y="5269"/>
                  <a:pt x="9860" y="5465"/>
                  <a:pt x="9773" y="5556"/>
                </a:cubicBezTo>
                <a:cubicBezTo>
                  <a:pt x="9637" y="5700"/>
                  <a:pt x="9563" y="5691"/>
                  <a:pt x="9401" y="5655"/>
                </a:cubicBezTo>
              </a:path>
              <a:path w="8038" h="4144">
                <a:moveTo>
                  <a:pt x="9054" y="5879"/>
                </a:moveTo>
                <a:cubicBezTo>
                  <a:pt x="9086" y="6056"/>
                  <a:pt x="9126" y="6226"/>
                  <a:pt x="9103" y="6400"/>
                </a:cubicBezTo>
              </a:path>
              <a:path w="8038" h="4144">
                <a:moveTo>
                  <a:pt x="8954" y="6176"/>
                </a:moveTo>
                <a:cubicBezTo>
                  <a:pt x="9160" y="6158"/>
                  <a:pt x="9312" y="6088"/>
                  <a:pt x="9500" y="6003"/>
                </a:cubicBezTo>
              </a:path>
              <a:path w="8038" h="4144">
                <a:moveTo>
                  <a:pt x="9674" y="5928"/>
                </a:moveTo>
                <a:cubicBezTo>
                  <a:pt x="9800" y="5869"/>
                  <a:pt x="9907" y="5822"/>
                  <a:pt x="10046" y="5804"/>
                </a:cubicBezTo>
                <a:cubicBezTo>
                  <a:pt x="10065" y="5991"/>
                  <a:pt x="10014" y="6138"/>
                  <a:pt x="9996" y="6325"/>
                </a:cubicBezTo>
                <a:cubicBezTo>
                  <a:pt x="9996" y="6358"/>
                  <a:pt x="9996" y="6391"/>
                  <a:pt x="9996" y="6424"/>
                </a:cubicBezTo>
              </a:path>
              <a:path w="8038" h="4144">
                <a:moveTo>
                  <a:pt x="9054" y="6921"/>
                </a:moveTo>
                <a:cubicBezTo>
                  <a:pt x="9401" y="6812"/>
                  <a:pt x="9739" y="6676"/>
                  <a:pt x="10096" y="6598"/>
                </a:cubicBezTo>
                <a:cubicBezTo>
                  <a:pt x="10228" y="6569"/>
                  <a:pt x="10321" y="6565"/>
                  <a:pt x="10443" y="6598"/>
                </a:cubicBezTo>
              </a:path>
              <a:path w="8038" h="4144">
                <a:moveTo>
                  <a:pt x="9550" y="7218"/>
                </a:moveTo>
                <a:cubicBezTo>
                  <a:pt x="9550" y="7427"/>
                  <a:pt x="9532" y="7630"/>
                  <a:pt x="9525" y="7838"/>
                </a:cubicBezTo>
                <a:cubicBezTo>
                  <a:pt x="9525" y="7888"/>
                  <a:pt x="9525" y="7905"/>
                  <a:pt x="9525" y="7838"/>
                </a:cubicBezTo>
              </a:path>
              <a:path w="8038" h="4144">
                <a:moveTo>
                  <a:pt x="10071" y="7069"/>
                </a:moveTo>
                <a:cubicBezTo>
                  <a:pt x="10244" y="7054"/>
                  <a:pt x="10539" y="7025"/>
                  <a:pt x="10616" y="7243"/>
                </a:cubicBezTo>
                <a:cubicBezTo>
                  <a:pt x="10691" y="7454"/>
                  <a:pt x="10421" y="7631"/>
                  <a:pt x="10244" y="7640"/>
                </a:cubicBezTo>
                <a:cubicBezTo>
                  <a:pt x="10145" y="7615"/>
                  <a:pt x="10112" y="7607"/>
                  <a:pt x="10120" y="7516"/>
                </a:cubicBezTo>
                <a:cubicBezTo>
                  <a:pt x="10227" y="7445"/>
                  <a:pt x="10403" y="7346"/>
                  <a:pt x="10542" y="7441"/>
                </a:cubicBezTo>
                <a:cubicBezTo>
                  <a:pt x="10572" y="7501"/>
                  <a:pt x="10571" y="7524"/>
                  <a:pt x="10492" y="7541"/>
                </a:cubicBezTo>
              </a:path>
              <a:path w="8038" h="4144">
                <a:moveTo>
                  <a:pt x="8806" y="7541"/>
                </a:moveTo>
                <a:cubicBezTo>
                  <a:pt x="8919" y="7518"/>
                  <a:pt x="9028" y="7442"/>
                  <a:pt x="9153" y="7466"/>
                </a:cubicBezTo>
                <a:cubicBezTo>
                  <a:pt x="9161" y="7474"/>
                  <a:pt x="9170" y="7483"/>
                  <a:pt x="9178" y="7491"/>
                </a:cubicBezTo>
              </a:path>
              <a:path w="8038" h="4144">
                <a:moveTo>
                  <a:pt x="8706" y="8161"/>
                </a:moveTo>
                <a:cubicBezTo>
                  <a:pt x="9184" y="8214"/>
                  <a:pt x="9603" y="8072"/>
                  <a:pt x="10071" y="7987"/>
                </a:cubicBezTo>
                <a:cubicBezTo>
                  <a:pt x="10416" y="7924"/>
                  <a:pt x="10843" y="7902"/>
                  <a:pt x="11137" y="7689"/>
                </a:cubicBezTo>
                <a:cubicBezTo>
                  <a:pt x="11348" y="7536"/>
                  <a:pt x="11476" y="7330"/>
                  <a:pt x="11460" y="7069"/>
                </a:cubicBezTo>
                <a:cubicBezTo>
                  <a:pt x="11447" y="6859"/>
                  <a:pt x="11201" y="6710"/>
                  <a:pt x="11013" y="6672"/>
                </a:cubicBezTo>
                <a:cubicBezTo>
                  <a:pt x="10368" y="6542"/>
                  <a:pt x="9698" y="6706"/>
                  <a:pt x="9128" y="6995"/>
                </a:cubicBezTo>
                <a:cubicBezTo>
                  <a:pt x="8815" y="7154"/>
                  <a:pt x="8282" y="7529"/>
                  <a:pt x="8334" y="7962"/>
                </a:cubicBezTo>
                <a:cubicBezTo>
                  <a:pt x="8385" y="8393"/>
                  <a:pt x="9202" y="8037"/>
                  <a:pt x="9376" y="7987"/>
                </a:cubicBezTo>
              </a:path>
              <a:path w="8038" h="4144">
                <a:moveTo>
                  <a:pt x="3870" y="8260"/>
                </a:moveTo>
                <a:cubicBezTo>
                  <a:pt x="3882" y="8402"/>
                  <a:pt x="3894" y="8538"/>
                  <a:pt x="3894" y="8682"/>
                </a:cubicBezTo>
                <a:cubicBezTo>
                  <a:pt x="3894" y="8698"/>
                  <a:pt x="3894" y="8715"/>
                  <a:pt x="3894" y="8731"/>
                </a:cubicBezTo>
              </a:path>
              <a:path w="8038" h="4144">
                <a:moveTo>
                  <a:pt x="4192" y="8285"/>
                </a:moveTo>
                <a:cubicBezTo>
                  <a:pt x="4317" y="8325"/>
                  <a:pt x="4520" y="8373"/>
                  <a:pt x="4415" y="8558"/>
                </a:cubicBezTo>
                <a:cubicBezTo>
                  <a:pt x="4361" y="8653"/>
                  <a:pt x="4144" y="8722"/>
                  <a:pt x="4093" y="8607"/>
                </a:cubicBezTo>
                <a:cubicBezTo>
                  <a:pt x="4093" y="8591"/>
                  <a:pt x="4093" y="8574"/>
                  <a:pt x="4093" y="8558"/>
                </a:cubicBezTo>
                <a:cubicBezTo>
                  <a:pt x="4189" y="8536"/>
                  <a:pt x="4385" y="8509"/>
                  <a:pt x="4415" y="8657"/>
                </a:cubicBezTo>
                <a:cubicBezTo>
                  <a:pt x="4407" y="8682"/>
                  <a:pt x="4398" y="8706"/>
                  <a:pt x="4390" y="8731"/>
                </a:cubicBezTo>
              </a:path>
              <a:path w="8038" h="4144">
                <a:moveTo>
                  <a:pt x="3448" y="8186"/>
                </a:moveTo>
                <a:cubicBezTo>
                  <a:pt x="3448" y="8469"/>
                  <a:pt x="3439" y="8747"/>
                  <a:pt x="3423" y="9029"/>
                </a:cubicBezTo>
                <a:cubicBezTo>
                  <a:pt x="3423" y="9021"/>
                  <a:pt x="3423" y="9012"/>
                  <a:pt x="3423" y="9004"/>
                </a:cubicBezTo>
              </a:path>
              <a:path w="8038" h="4144">
                <a:moveTo>
                  <a:pt x="4663" y="8086"/>
                </a:moveTo>
                <a:cubicBezTo>
                  <a:pt x="4653" y="8346"/>
                  <a:pt x="4642" y="8605"/>
                  <a:pt x="4564" y="8855"/>
                </a:cubicBezTo>
                <a:cubicBezTo>
                  <a:pt x="4524" y="8953"/>
                  <a:pt x="4508" y="8967"/>
                  <a:pt x="4514" y="9029"/>
                </a:cubicBezTo>
              </a:path>
              <a:path w="8038" h="4144">
                <a:moveTo>
                  <a:pt x="6176" y="8285"/>
                </a:moveTo>
                <a:cubicBezTo>
                  <a:pt x="6176" y="8153"/>
                  <a:pt x="6193" y="8501"/>
                  <a:pt x="6176" y="8632"/>
                </a:cubicBezTo>
                <a:cubicBezTo>
                  <a:pt x="6155" y="8792"/>
                  <a:pt x="6025" y="9220"/>
                  <a:pt x="6102" y="9079"/>
                </a:cubicBezTo>
                <a:cubicBezTo>
                  <a:pt x="6119" y="9037"/>
                  <a:pt x="6135" y="8996"/>
                  <a:pt x="6152" y="8954"/>
                </a:cubicBezTo>
              </a:path>
              <a:path w="8038" h="4144">
                <a:moveTo>
                  <a:pt x="6524" y="8384"/>
                </a:moveTo>
                <a:cubicBezTo>
                  <a:pt x="6524" y="8559"/>
                  <a:pt x="6523" y="8687"/>
                  <a:pt x="6474" y="8855"/>
                </a:cubicBezTo>
                <a:cubicBezTo>
                  <a:pt x="6466" y="8880"/>
                  <a:pt x="6457" y="8905"/>
                  <a:pt x="6449" y="8930"/>
                </a:cubicBezTo>
              </a:path>
              <a:path w="8038" h="4144">
                <a:moveTo>
                  <a:pt x="6945" y="8384"/>
                </a:moveTo>
                <a:cubicBezTo>
                  <a:pt x="6913" y="8430"/>
                  <a:pt x="6842" y="8464"/>
                  <a:pt x="6871" y="8533"/>
                </a:cubicBezTo>
                <a:cubicBezTo>
                  <a:pt x="6900" y="8602"/>
                  <a:pt x="6977" y="8645"/>
                  <a:pt x="6995" y="8731"/>
                </a:cubicBezTo>
                <a:cubicBezTo>
                  <a:pt x="7009" y="8795"/>
                  <a:pt x="6960" y="8815"/>
                  <a:pt x="6921" y="8855"/>
                </a:cubicBezTo>
                <a:cubicBezTo>
                  <a:pt x="6898" y="8717"/>
                  <a:pt x="6916" y="8626"/>
                  <a:pt x="6970" y="8483"/>
                </a:cubicBezTo>
                <a:cubicBezTo>
                  <a:pt x="6998" y="8409"/>
                  <a:pt x="7053" y="8367"/>
                  <a:pt x="7020" y="8334"/>
                </a:cubicBezTo>
              </a:path>
              <a:path w="8038" h="4144">
                <a:moveTo>
                  <a:pt x="7367" y="7962"/>
                </a:moveTo>
                <a:cubicBezTo>
                  <a:pt x="7367" y="8254"/>
                  <a:pt x="7358" y="8540"/>
                  <a:pt x="7317" y="8830"/>
                </a:cubicBezTo>
                <a:cubicBezTo>
                  <a:pt x="7298" y="8929"/>
                  <a:pt x="7290" y="8945"/>
                  <a:pt x="7293" y="9004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03680" y="3081240"/>
            <a:ext cx="1893600" cy="847800"/>
          </a:xfrm>
          <a:custGeom>
            <a:avLst/>
            <a:gdLst/>
            <a:ahLst/>
            <a:rect l="l" t="t" r="r" b="b"/>
            <a:pathLst>
              <a:path w="5259" h="2357">
                <a:moveTo>
                  <a:pt x="11485" y="8954"/>
                </a:moveTo>
                <a:cubicBezTo>
                  <a:pt x="11623" y="8969"/>
                  <a:pt x="11848" y="8975"/>
                  <a:pt x="11807" y="9178"/>
                </a:cubicBezTo>
                <a:cubicBezTo>
                  <a:pt x="11781" y="9308"/>
                  <a:pt x="11556" y="9445"/>
                  <a:pt x="11435" y="9376"/>
                </a:cubicBezTo>
                <a:cubicBezTo>
                  <a:pt x="11427" y="9360"/>
                  <a:pt x="11418" y="9343"/>
                  <a:pt x="11410" y="9327"/>
                </a:cubicBezTo>
                <a:cubicBezTo>
                  <a:pt x="11551" y="9228"/>
                  <a:pt x="11628" y="9254"/>
                  <a:pt x="11782" y="9327"/>
                </a:cubicBezTo>
                <a:cubicBezTo>
                  <a:pt x="11823" y="9347"/>
                  <a:pt x="11840" y="9344"/>
                  <a:pt x="11832" y="9376"/>
                </a:cubicBezTo>
              </a:path>
              <a:path w="5259" h="2357">
                <a:moveTo>
                  <a:pt x="10592" y="9748"/>
                </a:moveTo>
                <a:cubicBezTo>
                  <a:pt x="10908" y="9695"/>
                  <a:pt x="11219" y="9633"/>
                  <a:pt x="11534" y="9575"/>
                </a:cubicBezTo>
                <a:cubicBezTo>
                  <a:pt x="11764" y="9532"/>
                  <a:pt x="12034" y="9581"/>
                  <a:pt x="12254" y="9525"/>
                </a:cubicBezTo>
                <a:cubicBezTo>
                  <a:pt x="12278" y="9525"/>
                  <a:pt x="12286" y="9525"/>
                  <a:pt x="12278" y="9500"/>
                </a:cubicBezTo>
              </a:path>
              <a:path w="5259" h="2357">
                <a:moveTo>
                  <a:pt x="11832" y="9773"/>
                </a:moveTo>
                <a:cubicBezTo>
                  <a:pt x="11808" y="9702"/>
                  <a:pt x="11774" y="9832"/>
                  <a:pt x="11757" y="9872"/>
                </a:cubicBezTo>
                <a:cubicBezTo>
                  <a:pt x="11700" y="10008"/>
                  <a:pt x="11607" y="10191"/>
                  <a:pt x="11633" y="10344"/>
                </a:cubicBezTo>
                <a:cubicBezTo>
                  <a:pt x="11654" y="10467"/>
                  <a:pt x="11858" y="10416"/>
                  <a:pt x="11931" y="10393"/>
                </a:cubicBezTo>
                <a:cubicBezTo>
                  <a:pt x="12086" y="10344"/>
                  <a:pt x="12227" y="10326"/>
                  <a:pt x="12328" y="10195"/>
                </a:cubicBezTo>
                <a:cubicBezTo>
                  <a:pt x="12376" y="10123"/>
                  <a:pt x="12394" y="10102"/>
                  <a:pt x="12353" y="10046"/>
                </a:cubicBezTo>
                <a:cubicBezTo>
                  <a:pt x="12175" y="10032"/>
                  <a:pt x="12092" y="10129"/>
                  <a:pt x="12005" y="10294"/>
                </a:cubicBezTo>
                <a:cubicBezTo>
                  <a:pt x="11984" y="10359"/>
                  <a:pt x="11976" y="10375"/>
                  <a:pt x="11981" y="10418"/>
                </a:cubicBezTo>
              </a:path>
              <a:path w="5259" h="2357">
                <a:moveTo>
                  <a:pt x="10840" y="10220"/>
                </a:moveTo>
                <a:cubicBezTo>
                  <a:pt x="10768" y="10220"/>
                  <a:pt x="11017" y="10196"/>
                  <a:pt x="11038" y="10195"/>
                </a:cubicBezTo>
                <a:cubicBezTo>
                  <a:pt x="11106" y="10195"/>
                  <a:pt x="11125" y="10198"/>
                  <a:pt x="11162" y="10170"/>
                </a:cubicBezTo>
              </a:path>
              <a:path w="5259" h="2357">
                <a:moveTo>
                  <a:pt x="11311" y="10889"/>
                </a:moveTo>
                <a:cubicBezTo>
                  <a:pt x="11525" y="10850"/>
                  <a:pt x="11741" y="10824"/>
                  <a:pt x="11956" y="10790"/>
                </a:cubicBezTo>
                <a:cubicBezTo>
                  <a:pt x="12150" y="10760"/>
                  <a:pt x="12341" y="10732"/>
                  <a:pt x="12526" y="10666"/>
                </a:cubicBezTo>
                <a:cubicBezTo>
                  <a:pt x="12743" y="10588"/>
                  <a:pt x="12832" y="10491"/>
                  <a:pt x="12973" y="10319"/>
                </a:cubicBezTo>
                <a:cubicBezTo>
                  <a:pt x="13037" y="10241"/>
                  <a:pt x="13046" y="10195"/>
                  <a:pt x="13022" y="10096"/>
                </a:cubicBezTo>
                <a:cubicBezTo>
                  <a:pt x="12993" y="9977"/>
                  <a:pt x="12946" y="9901"/>
                  <a:pt x="12849" y="9823"/>
                </a:cubicBezTo>
                <a:cubicBezTo>
                  <a:pt x="12726" y="9724"/>
                  <a:pt x="12578" y="9663"/>
                  <a:pt x="12427" y="9649"/>
                </a:cubicBezTo>
                <a:cubicBezTo>
                  <a:pt x="12333" y="9640"/>
                  <a:pt x="12245" y="9643"/>
                  <a:pt x="12154" y="9624"/>
                </a:cubicBezTo>
                <a:cubicBezTo>
                  <a:pt x="12063" y="9605"/>
                  <a:pt x="11993" y="9631"/>
                  <a:pt x="11906" y="9624"/>
                </a:cubicBezTo>
                <a:cubicBezTo>
                  <a:pt x="11789" y="9615"/>
                  <a:pt x="11703" y="9611"/>
                  <a:pt x="11584" y="9624"/>
                </a:cubicBezTo>
                <a:cubicBezTo>
                  <a:pt x="11458" y="9638"/>
                  <a:pt x="11357" y="9686"/>
                  <a:pt x="11237" y="9723"/>
                </a:cubicBezTo>
                <a:cubicBezTo>
                  <a:pt x="11111" y="9762"/>
                  <a:pt x="10971" y="9769"/>
                  <a:pt x="10840" y="9798"/>
                </a:cubicBezTo>
                <a:cubicBezTo>
                  <a:pt x="10689" y="9831"/>
                  <a:pt x="10525" y="9872"/>
                  <a:pt x="10393" y="9947"/>
                </a:cubicBezTo>
                <a:cubicBezTo>
                  <a:pt x="10296" y="10002"/>
                  <a:pt x="10197" y="10068"/>
                  <a:pt x="10145" y="10170"/>
                </a:cubicBezTo>
                <a:cubicBezTo>
                  <a:pt x="10100" y="10260"/>
                  <a:pt x="10085" y="10397"/>
                  <a:pt x="10120" y="10492"/>
                </a:cubicBezTo>
                <a:cubicBezTo>
                  <a:pt x="10194" y="10694"/>
                  <a:pt x="10405" y="10803"/>
                  <a:pt x="10592" y="10864"/>
                </a:cubicBezTo>
                <a:cubicBezTo>
                  <a:pt x="10741" y="10913"/>
                  <a:pt x="10883" y="10914"/>
                  <a:pt x="11038" y="10914"/>
                </a:cubicBezTo>
                <a:cubicBezTo>
                  <a:pt x="11202" y="10914"/>
                  <a:pt x="11373" y="10897"/>
                  <a:pt x="11534" y="10864"/>
                </a:cubicBezTo>
                <a:cubicBezTo>
                  <a:pt x="11634" y="10844"/>
                  <a:pt x="11735" y="10814"/>
                  <a:pt x="11832" y="10790"/>
                </a:cubicBezTo>
              </a:path>
              <a:path w="5259" h="2357">
                <a:moveTo>
                  <a:pt x="10294" y="8558"/>
                </a:moveTo>
                <a:cubicBezTo>
                  <a:pt x="10170" y="8566"/>
                  <a:pt x="10091" y="8590"/>
                  <a:pt x="9971" y="8632"/>
                </a:cubicBezTo>
                <a:cubicBezTo>
                  <a:pt x="9742" y="8712"/>
                  <a:pt x="9548" y="8809"/>
                  <a:pt x="9351" y="8954"/>
                </a:cubicBezTo>
                <a:cubicBezTo>
                  <a:pt x="9186" y="9076"/>
                  <a:pt x="8997" y="9290"/>
                  <a:pt x="8954" y="9500"/>
                </a:cubicBezTo>
                <a:cubicBezTo>
                  <a:pt x="8920" y="9665"/>
                  <a:pt x="9001" y="9820"/>
                  <a:pt x="8905" y="9971"/>
                </a:cubicBezTo>
                <a:cubicBezTo>
                  <a:pt x="8822" y="10101"/>
                  <a:pt x="8695" y="10082"/>
                  <a:pt x="8582" y="10021"/>
                </a:cubicBezTo>
                <a:cubicBezTo>
                  <a:pt x="8476" y="9964"/>
                  <a:pt x="8383" y="9926"/>
                  <a:pt x="8260" y="9922"/>
                </a:cubicBezTo>
                <a:cubicBezTo>
                  <a:pt x="8169" y="9919"/>
                  <a:pt x="8078" y="9922"/>
                  <a:pt x="7987" y="9922"/>
                </a:cubicBezTo>
                <a:cubicBezTo>
                  <a:pt x="8050" y="10023"/>
                  <a:pt x="8138" y="10116"/>
                  <a:pt x="8210" y="10220"/>
                </a:cubicBezTo>
                <a:cubicBezTo>
                  <a:pt x="8233" y="10242"/>
                  <a:pt x="8241" y="10247"/>
                  <a:pt x="8235" y="10269"/>
                </a:cubicBezTo>
                <a:cubicBezTo>
                  <a:pt x="8162" y="10182"/>
                  <a:pt x="8059" y="10077"/>
                  <a:pt x="7962" y="9996"/>
                </a:cubicBezTo>
                <a:cubicBezTo>
                  <a:pt x="7872" y="9929"/>
                  <a:pt x="7849" y="9911"/>
                  <a:pt x="7789" y="9872"/>
                </a:cubicBezTo>
                <a:cubicBezTo>
                  <a:pt x="7834" y="9859"/>
                  <a:pt x="8061" y="9795"/>
                  <a:pt x="8136" y="9773"/>
                </a:cubicBezTo>
                <a:cubicBezTo>
                  <a:pt x="8244" y="9741"/>
                  <a:pt x="8281" y="9715"/>
                  <a:pt x="8359" y="9674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59120" y="2938320"/>
            <a:ext cx="455760" cy="482760"/>
          </a:xfrm>
          <a:custGeom>
            <a:avLst/>
            <a:gdLst/>
            <a:ahLst/>
            <a:rect l="l" t="t" r="r" b="b"/>
            <a:pathLst>
              <a:path w="1266" h="1340">
                <a:moveTo>
                  <a:pt x="11137" y="8434"/>
                </a:moveTo>
                <a:cubicBezTo>
                  <a:pt x="11176" y="8434"/>
                  <a:pt x="11162" y="8417"/>
                  <a:pt x="11162" y="8384"/>
                </a:cubicBezTo>
              </a:path>
              <a:path w="1266" h="1340">
                <a:moveTo>
                  <a:pt x="10443" y="9327"/>
                </a:moveTo>
                <a:cubicBezTo>
                  <a:pt x="10461" y="9272"/>
                  <a:pt x="10598" y="9238"/>
                  <a:pt x="10666" y="9227"/>
                </a:cubicBezTo>
                <a:cubicBezTo>
                  <a:pt x="10732" y="9227"/>
                  <a:pt x="10749" y="9227"/>
                  <a:pt x="10790" y="9227"/>
                </a:cubicBezTo>
              </a:path>
              <a:path w="1266" h="1340">
                <a:moveTo>
                  <a:pt x="11162" y="8434"/>
                </a:moveTo>
                <a:cubicBezTo>
                  <a:pt x="11162" y="8354"/>
                  <a:pt x="11140" y="8420"/>
                  <a:pt x="11112" y="8384"/>
                </a:cubicBezTo>
                <a:cubicBezTo>
                  <a:pt x="11112" y="8376"/>
                  <a:pt x="11112" y="8367"/>
                  <a:pt x="11112" y="8359"/>
                </a:cubicBezTo>
                <a:cubicBezTo>
                  <a:pt x="11098" y="8509"/>
                  <a:pt x="11078" y="8660"/>
                  <a:pt x="11038" y="8806"/>
                </a:cubicBezTo>
                <a:cubicBezTo>
                  <a:pt x="11030" y="8831"/>
                  <a:pt x="11021" y="8855"/>
                  <a:pt x="11013" y="8880"/>
                </a:cubicBezTo>
              </a:path>
              <a:path w="1266" h="1340">
                <a:moveTo>
                  <a:pt x="11658" y="8161"/>
                </a:moveTo>
                <a:cubicBezTo>
                  <a:pt x="11598" y="8214"/>
                  <a:pt x="11470" y="8280"/>
                  <a:pt x="11509" y="8384"/>
                </a:cubicBezTo>
                <a:cubicBezTo>
                  <a:pt x="11546" y="8481"/>
                  <a:pt x="11708" y="8484"/>
                  <a:pt x="11708" y="8607"/>
                </a:cubicBezTo>
                <a:cubicBezTo>
                  <a:pt x="11708" y="8710"/>
                  <a:pt x="11608" y="8707"/>
                  <a:pt x="11534" y="8731"/>
                </a:cubicBezTo>
                <a:cubicBezTo>
                  <a:pt x="11544" y="8557"/>
                  <a:pt x="11600" y="8446"/>
                  <a:pt x="11658" y="8285"/>
                </a:cubicBezTo>
                <a:cubicBezTo>
                  <a:pt x="11658" y="8277"/>
                  <a:pt x="11658" y="8268"/>
                  <a:pt x="11658" y="8260"/>
                </a:cubicBezTo>
              </a:path>
              <a:path w="1266" h="1340">
                <a:moveTo>
                  <a:pt x="11187" y="9079"/>
                </a:moveTo>
                <a:cubicBezTo>
                  <a:pt x="11177" y="9207"/>
                  <a:pt x="11133" y="9325"/>
                  <a:pt x="11112" y="9451"/>
                </a:cubicBezTo>
                <a:cubicBezTo>
                  <a:pt x="11112" y="9518"/>
                  <a:pt x="11116" y="9517"/>
                  <a:pt x="11137" y="940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97160" y="4384800"/>
            <a:ext cx="884160" cy="1133280"/>
          </a:xfrm>
          <a:custGeom>
            <a:avLst/>
            <a:gdLst/>
            <a:ahLst/>
            <a:rect l="l" t="t" r="r" b="b"/>
            <a:pathLst>
              <a:path w="2457" h="3151">
                <a:moveTo>
                  <a:pt x="9649" y="12378"/>
                </a:moveTo>
                <a:cubicBezTo>
                  <a:pt x="9579" y="12355"/>
                  <a:pt x="9645" y="12259"/>
                  <a:pt x="9699" y="12229"/>
                </a:cubicBezTo>
                <a:cubicBezTo>
                  <a:pt x="9789" y="12206"/>
                  <a:pt x="9813" y="12198"/>
                  <a:pt x="9872" y="12204"/>
                </a:cubicBezTo>
                <a:cubicBezTo>
                  <a:pt x="9883" y="12383"/>
                  <a:pt x="9826" y="12452"/>
                  <a:pt x="9723" y="12601"/>
                </a:cubicBezTo>
                <a:cubicBezTo>
                  <a:pt x="9790" y="12548"/>
                  <a:pt x="10002" y="12409"/>
                  <a:pt x="9996" y="12626"/>
                </a:cubicBezTo>
                <a:cubicBezTo>
                  <a:pt x="9991" y="12792"/>
                  <a:pt x="9727" y="12965"/>
                  <a:pt x="9575" y="12948"/>
                </a:cubicBezTo>
                <a:cubicBezTo>
                  <a:pt x="9484" y="12887"/>
                  <a:pt x="9459" y="12851"/>
                  <a:pt x="9500" y="12750"/>
                </a:cubicBezTo>
              </a:path>
              <a:path w="2457" h="3151">
                <a:moveTo>
                  <a:pt x="10220" y="12179"/>
                </a:moveTo>
                <a:cubicBezTo>
                  <a:pt x="10341" y="12179"/>
                  <a:pt x="10558" y="12154"/>
                  <a:pt x="10616" y="12303"/>
                </a:cubicBezTo>
                <a:cubicBezTo>
                  <a:pt x="10695" y="12506"/>
                  <a:pt x="10445" y="12645"/>
                  <a:pt x="10294" y="12675"/>
                </a:cubicBezTo>
                <a:cubicBezTo>
                  <a:pt x="10269" y="12675"/>
                  <a:pt x="10245" y="12675"/>
                  <a:pt x="10220" y="12675"/>
                </a:cubicBezTo>
                <a:cubicBezTo>
                  <a:pt x="10207" y="12486"/>
                  <a:pt x="10285" y="12427"/>
                  <a:pt x="10468" y="12551"/>
                </a:cubicBezTo>
                <a:cubicBezTo>
                  <a:pt x="10541" y="12624"/>
                  <a:pt x="10565" y="12647"/>
                  <a:pt x="10542" y="12725"/>
                </a:cubicBezTo>
              </a:path>
              <a:path w="2457" h="3151">
                <a:moveTo>
                  <a:pt x="9178" y="13047"/>
                </a:moveTo>
                <a:cubicBezTo>
                  <a:pt x="9207" y="13201"/>
                  <a:pt x="9250" y="13345"/>
                  <a:pt x="9227" y="13494"/>
                </a:cubicBezTo>
              </a:path>
              <a:path w="2457" h="3151">
                <a:moveTo>
                  <a:pt x="9029" y="13345"/>
                </a:moveTo>
                <a:cubicBezTo>
                  <a:pt x="9178" y="13320"/>
                  <a:pt x="9228" y="13312"/>
                  <a:pt x="9327" y="13295"/>
                </a:cubicBezTo>
              </a:path>
              <a:path w="2457" h="3151">
                <a:moveTo>
                  <a:pt x="9699" y="13146"/>
                </a:moveTo>
                <a:cubicBezTo>
                  <a:pt x="9699" y="13039"/>
                  <a:pt x="9699" y="13312"/>
                  <a:pt x="9699" y="13419"/>
                </a:cubicBezTo>
                <a:cubicBezTo>
                  <a:pt x="9699" y="13527"/>
                  <a:pt x="9699" y="13584"/>
                  <a:pt x="9699" y="13692"/>
                </a:cubicBezTo>
              </a:path>
              <a:path w="2457" h="3151">
                <a:moveTo>
                  <a:pt x="10492" y="12973"/>
                </a:moveTo>
                <a:cubicBezTo>
                  <a:pt x="10438" y="13006"/>
                  <a:pt x="10361" y="13024"/>
                  <a:pt x="10294" y="13047"/>
                </a:cubicBezTo>
                <a:cubicBezTo>
                  <a:pt x="10181" y="13087"/>
                  <a:pt x="10174" y="13156"/>
                  <a:pt x="10170" y="13271"/>
                </a:cubicBezTo>
                <a:cubicBezTo>
                  <a:pt x="10170" y="13296"/>
                  <a:pt x="10170" y="13320"/>
                  <a:pt x="10170" y="13345"/>
                </a:cubicBezTo>
                <a:cubicBezTo>
                  <a:pt x="10284" y="13322"/>
                  <a:pt x="10325" y="13204"/>
                  <a:pt x="10443" y="13171"/>
                </a:cubicBezTo>
                <a:cubicBezTo>
                  <a:pt x="10560" y="13171"/>
                  <a:pt x="10594" y="13169"/>
                  <a:pt x="10666" y="13196"/>
                </a:cubicBezTo>
                <a:cubicBezTo>
                  <a:pt x="10694" y="13380"/>
                  <a:pt x="10611" y="13482"/>
                  <a:pt x="10418" y="13543"/>
                </a:cubicBezTo>
                <a:cubicBezTo>
                  <a:pt x="10360" y="13551"/>
                  <a:pt x="10302" y="13560"/>
                  <a:pt x="10244" y="13568"/>
                </a:cubicBezTo>
              </a:path>
              <a:path w="2457" h="3151">
                <a:moveTo>
                  <a:pt x="9178" y="13816"/>
                </a:moveTo>
                <a:cubicBezTo>
                  <a:pt x="9589" y="13745"/>
                  <a:pt x="10001" y="13666"/>
                  <a:pt x="10418" y="13643"/>
                </a:cubicBezTo>
                <a:cubicBezTo>
                  <a:pt x="10591" y="13643"/>
                  <a:pt x="10633" y="13643"/>
                  <a:pt x="10740" y="13643"/>
                </a:cubicBezTo>
              </a:path>
              <a:path w="2457" h="3151">
                <a:moveTo>
                  <a:pt x="9550" y="14288"/>
                </a:moveTo>
                <a:cubicBezTo>
                  <a:pt x="9526" y="14407"/>
                  <a:pt x="9507" y="14515"/>
                  <a:pt x="9500" y="14635"/>
                </a:cubicBezTo>
                <a:cubicBezTo>
                  <a:pt x="9624" y="14660"/>
                  <a:pt x="9816" y="14596"/>
                  <a:pt x="9922" y="14511"/>
                </a:cubicBezTo>
                <a:cubicBezTo>
                  <a:pt x="9987" y="14424"/>
                  <a:pt x="10007" y="14405"/>
                  <a:pt x="10021" y="14337"/>
                </a:cubicBezTo>
              </a:path>
              <a:path w="2457" h="3151">
                <a:moveTo>
                  <a:pt x="9922" y="14139"/>
                </a:moveTo>
                <a:cubicBezTo>
                  <a:pt x="9953" y="14372"/>
                  <a:pt x="9984" y="14601"/>
                  <a:pt x="10021" y="14833"/>
                </a:cubicBezTo>
                <a:cubicBezTo>
                  <a:pt x="10021" y="14895"/>
                  <a:pt x="10012" y="14929"/>
                  <a:pt x="10046" y="14883"/>
                </a:cubicBezTo>
              </a:path>
              <a:path w="2457" h="3151">
                <a:moveTo>
                  <a:pt x="10195" y="14163"/>
                </a:moveTo>
                <a:cubicBezTo>
                  <a:pt x="10278" y="14098"/>
                  <a:pt x="10393" y="14050"/>
                  <a:pt x="10492" y="14015"/>
                </a:cubicBezTo>
                <a:cubicBezTo>
                  <a:pt x="10560" y="13991"/>
                  <a:pt x="10601" y="13990"/>
                  <a:pt x="10666" y="13990"/>
                </a:cubicBezTo>
                <a:cubicBezTo>
                  <a:pt x="10691" y="14166"/>
                  <a:pt x="10685" y="14312"/>
                  <a:pt x="10666" y="14486"/>
                </a:cubicBezTo>
                <a:cubicBezTo>
                  <a:pt x="10666" y="14503"/>
                  <a:pt x="10666" y="14519"/>
                  <a:pt x="10666" y="14536"/>
                </a:cubicBezTo>
              </a:path>
              <a:path w="2457" h="3151">
                <a:moveTo>
                  <a:pt x="9004" y="15032"/>
                </a:moveTo>
                <a:cubicBezTo>
                  <a:pt x="9041" y="15039"/>
                  <a:pt x="9171" y="15107"/>
                  <a:pt x="9252" y="15156"/>
                </a:cubicBezTo>
                <a:cubicBezTo>
                  <a:pt x="9504" y="15309"/>
                  <a:pt x="9753" y="15343"/>
                  <a:pt x="10046" y="15329"/>
                </a:cubicBezTo>
                <a:cubicBezTo>
                  <a:pt x="10406" y="15312"/>
                  <a:pt x="10784" y="15217"/>
                  <a:pt x="11038" y="14957"/>
                </a:cubicBezTo>
                <a:cubicBezTo>
                  <a:pt x="11211" y="14781"/>
                  <a:pt x="11345" y="14535"/>
                  <a:pt x="11336" y="14288"/>
                </a:cubicBezTo>
                <a:cubicBezTo>
                  <a:pt x="11326" y="14015"/>
                  <a:pt x="11112" y="13870"/>
                  <a:pt x="10864" y="13816"/>
                </a:cubicBezTo>
                <a:cubicBezTo>
                  <a:pt x="10590" y="13757"/>
                  <a:pt x="10253" y="13701"/>
                  <a:pt x="9971" y="13717"/>
                </a:cubicBezTo>
                <a:cubicBezTo>
                  <a:pt x="9708" y="13732"/>
                  <a:pt x="9383" y="13816"/>
                  <a:pt x="9178" y="13990"/>
                </a:cubicBezTo>
                <a:cubicBezTo>
                  <a:pt x="8966" y="14170"/>
                  <a:pt x="8804" y="14514"/>
                  <a:pt x="8930" y="14784"/>
                </a:cubicBezTo>
                <a:cubicBezTo>
                  <a:pt x="9128" y="15208"/>
                  <a:pt x="9568" y="15070"/>
                  <a:pt x="9922" y="1500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94080" y="5705640"/>
            <a:ext cx="1204920" cy="1046160"/>
          </a:xfrm>
          <a:custGeom>
            <a:avLst/>
            <a:gdLst/>
            <a:ahLst/>
            <a:rect l="l" t="t" r="r" b="b"/>
            <a:pathLst>
              <a:path w="3349" h="2903">
                <a:moveTo>
                  <a:pt x="10988" y="15974"/>
                </a:moveTo>
                <a:cubicBezTo>
                  <a:pt x="10988" y="16156"/>
                  <a:pt x="10988" y="16652"/>
                  <a:pt x="10988" y="16470"/>
                </a:cubicBezTo>
              </a:path>
              <a:path w="3349" h="2903">
                <a:moveTo>
                  <a:pt x="11261" y="15875"/>
                </a:moveTo>
                <a:cubicBezTo>
                  <a:pt x="11369" y="15899"/>
                  <a:pt x="11487" y="15854"/>
                  <a:pt x="11609" y="15850"/>
                </a:cubicBezTo>
                <a:cubicBezTo>
                  <a:pt x="11634" y="15850"/>
                  <a:pt x="11658" y="15850"/>
                  <a:pt x="11683" y="15850"/>
                </a:cubicBezTo>
                <a:cubicBezTo>
                  <a:pt x="11721" y="15963"/>
                  <a:pt x="11686" y="16059"/>
                  <a:pt x="11658" y="16173"/>
                </a:cubicBezTo>
                <a:cubicBezTo>
                  <a:pt x="11650" y="16198"/>
                  <a:pt x="11641" y="16222"/>
                  <a:pt x="11633" y="16247"/>
                </a:cubicBezTo>
              </a:path>
              <a:path w="3349" h="2903">
                <a:moveTo>
                  <a:pt x="10368" y="16694"/>
                </a:moveTo>
                <a:cubicBezTo>
                  <a:pt x="10398" y="16842"/>
                  <a:pt x="10393" y="16988"/>
                  <a:pt x="10393" y="17140"/>
                </a:cubicBezTo>
                <a:cubicBezTo>
                  <a:pt x="10393" y="17148"/>
                  <a:pt x="10393" y="17157"/>
                  <a:pt x="10393" y="17165"/>
                </a:cubicBezTo>
              </a:path>
              <a:path w="3349" h="2903">
                <a:moveTo>
                  <a:pt x="10344" y="16942"/>
                </a:moveTo>
                <a:cubicBezTo>
                  <a:pt x="10526" y="16883"/>
                  <a:pt x="10707" y="16827"/>
                  <a:pt x="10889" y="16768"/>
                </a:cubicBezTo>
              </a:path>
              <a:path w="3349" h="2903">
                <a:moveTo>
                  <a:pt x="11509" y="16545"/>
                </a:moveTo>
                <a:cubicBezTo>
                  <a:pt x="11399" y="16545"/>
                  <a:pt x="11325" y="16574"/>
                  <a:pt x="11237" y="16644"/>
                </a:cubicBezTo>
                <a:cubicBezTo>
                  <a:pt x="11220" y="16661"/>
                  <a:pt x="11204" y="16677"/>
                  <a:pt x="11187" y="16694"/>
                </a:cubicBezTo>
                <a:cubicBezTo>
                  <a:pt x="11279" y="16815"/>
                  <a:pt x="11417" y="16819"/>
                  <a:pt x="11534" y="16917"/>
                </a:cubicBezTo>
                <a:cubicBezTo>
                  <a:pt x="11559" y="16966"/>
                  <a:pt x="11567" y="16983"/>
                  <a:pt x="11534" y="17016"/>
                </a:cubicBezTo>
                <a:cubicBezTo>
                  <a:pt x="11398" y="17016"/>
                  <a:pt x="11290" y="17028"/>
                  <a:pt x="11361" y="16842"/>
                </a:cubicBezTo>
                <a:cubicBezTo>
                  <a:pt x="11408" y="16718"/>
                  <a:pt x="11696" y="16449"/>
                  <a:pt x="11584" y="16520"/>
                </a:cubicBezTo>
                <a:cubicBezTo>
                  <a:pt x="11567" y="16537"/>
                  <a:pt x="11551" y="16553"/>
                  <a:pt x="11534" y="16570"/>
                </a:cubicBezTo>
              </a:path>
              <a:path w="3349" h="2903">
                <a:moveTo>
                  <a:pt x="10418" y="17363"/>
                </a:moveTo>
                <a:cubicBezTo>
                  <a:pt x="10715" y="17282"/>
                  <a:pt x="11001" y="17208"/>
                  <a:pt x="11311" y="17190"/>
                </a:cubicBezTo>
                <a:cubicBezTo>
                  <a:pt x="11459" y="17182"/>
                  <a:pt x="11592" y="17185"/>
                  <a:pt x="11733" y="17214"/>
                </a:cubicBezTo>
              </a:path>
              <a:path w="3349" h="2903">
                <a:moveTo>
                  <a:pt x="10740" y="17711"/>
                </a:moveTo>
                <a:cubicBezTo>
                  <a:pt x="10916" y="17693"/>
                  <a:pt x="11084" y="17689"/>
                  <a:pt x="11137" y="17909"/>
                </a:cubicBezTo>
                <a:cubicBezTo>
                  <a:pt x="11184" y="18103"/>
                  <a:pt x="10947" y="18258"/>
                  <a:pt x="10790" y="18306"/>
                </a:cubicBezTo>
                <a:cubicBezTo>
                  <a:pt x="10757" y="18306"/>
                  <a:pt x="10724" y="18306"/>
                  <a:pt x="10691" y="18306"/>
                </a:cubicBezTo>
                <a:cubicBezTo>
                  <a:pt x="10635" y="18196"/>
                  <a:pt x="10697" y="18125"/>
                  <a:pt x="10815" y="18083"/>
                </a:cubicBezTo>
                <a:cubicBezTo>
                  <a:pt x="10963" y="18030"/>
                  <a:pt x="11063" y="18077"/>
                  <a:pt x="11137" y="18207"/>
                </a:cubicBezTo>
                <a:cubicBezTo>
                  <a:pt x="11137" y="18231"/>
                  <a:pt x="11137" y="18239"/>
                  <a:pt x="11137" y="18207"/>
                </a:cubicBezTo>
              </a:path>
              <a:path w="3349" h="2903">
                <a:moveTo>
                  <a:pt x="11782" y="17562"/>
                </a:moveTo>
                <a:cubicBezTo>
                  <a:pt x="11654" y="17599"/>
                  <a:pt x="11543" y="17611"/>
                  <a:pt x="11410" y="17611"/>
                </a:cubicBezTo>
                <a:cubicBezTo>
                  <a:pt x="11362" y="17611"/>
                  <a:pt x="11394" y="17560"/>
                  <a:pt x="11361" y="17686"/>
                </a:cubicBezTo>
                <a:cubicBezTo>
                  <a:pt x="11340" y="17766"/>
                  <a:pt x="11336" y="17834"/>
                  <a:pt x="11311" y="17909"/>
                </a:cubicBezTo>
                <a:cubicBezTo>
                  <a:pt x="11394" y="17909"/>
                  <a:pt x="11410" y="17864"/>
                  <a:pt x="11509" y="17859"/>
                </a:cubicBezTo>
                <a:cubicBezTo>
                  <a:pt x="11649" y="17852"/>
                  <a:pt x="11870" y="17852"/>
                  <a:pt x="11881" y="18033"/>
                </a:cubicBezTo>
                <a:cubicBezTo>
                  <a:pt x="11893" y="18231"/>
                  <a:pt x="11610" y="18329"/>
                  <a:pt x="11460" y="18331"/>
                </a:cubicBezTo>
                <a:cubicBezTo>
                  <a:pt x="11394" y="18323"/>
                  <a:pt x="11327" y="18314"/>
                  <a:pt x="11261" y="18306"/>
                </a:cubicBezTo>
              </a:path>
              <a:path w="3349" h="2903">
                <a:moveTo>
                  <a:pt x="9971" y="17934"/>
                </a:moveTo>
                <a:cubicBezTo>
                  <a:pt x="10031" y="17934"/>
                  <a:pt x="10085" y="17952"/>
                  <a:pt x="10145" y="17959"/>
                </a:cubicBezTo>
              </a:path>
              <a:path w="3349" h="2903">
                <a:moveTo>
                  <a:pt x="10145" y="18678"/>
                </a:moveTo>
                <a:cubicBezTo>
                  <a:pt x="10412" y="18721"/>
                  <a:pt x="10694" y="18757"/>
                  <a:pt x="10964" y="18752"/>
                </a:cubicBezTo>
                <a:cubicBezTo>
                  <a:pt x="11304" y="18745"/>
                  <a:pt x="11672" y="18726"/>
                  <a:pt x="12005" y="18653"/>
                </a:cubicBezTo>
                <a:cubicBezTo>
                  <a:pt x="12304" y="18588"/>
                  <a:pt x="12600" y="18403"/>
                  <a:pt x="12725" y="18107"/>
                </a:cubicBezTo>
                <a:cubicBezTo>
                  <a:pt x="12852" y="17807"/>
                  <a:pt x="12655" y="17537"/>
                  <a:pt x="12402" y="17388"/>
                </a:cubicBezTo>
                <a:cubicBezTo>
                  <a:pt x="12082" y="17199"/>
                  <a:pt x="11646" y="17195"/>
                  <a:pt x="11286" y="17165"/>
                </a:cubicBezTo>
                <a:cubicBezTo>
                  <a:pt x="10837" y="17127"/>
                  <a:pt x="10384" y="17206"/>
                  <a:pt x="9947" y="17314"/>
                </a:cubicBezTo>
                <a:cubicBezTo>
                  <a:pt x="9563" y="17409"/>
                  <a:pt x="9396" y="17686"/>
                  <a:pt x="9426" y="18083"/>
                </a:cubicBezTo>
                <a:cubicBezTo>
                  <a:pt x="9463" y="18559"/>
                  <a:pt x="9843" y="18654"/>
                  <a:pt x="10244" y="18678"/>
                </a:cubicBezTo>
                <a:cubicBezTo>
                  <a:pt x="10617" y="18678"/>
                  <a:pt x="10758" y="18675"/>
                  <a:pt x="11013" y="18628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38200" y="5241960"/>
            <a:ext cx="27000" cy="268200"/>
          </a:xfrm>
          <a:custGeom>
            <a:avLst/>
            <a:gdLst/>
            <a:ahLst/>
            <a:rect l="l" t="t" r="r" b="b"/>
            <a:pathLst>
              <a:path w="75" h="745">
                <a:moveTo>
                  <a:pt x="3994" y="14560"/>
                </a:moveTo>
                <a:cubicBezTo>
                  <a:pt x="4012" y="14750"/>
                  <a:pt x="4054" y="14940"/>
                  <a:pt x="4068" y="15131"/>
                </a:cubicBezTo>
                <a:cubicBezTo>
                  <a:pt x="4071" y="15174"/>
                  <a:pt x="4082" y="15316"/>
                  <a:pt x="4043" y="15280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89040" y="5126040"/>
            <a:ext cx="304920" cy="384120"/>
          </a:xfrm>
          <a:custGeom>
            <a:avLst/>
            <a:gdLst/>
            <a:ahLst/>
            <a:rect l="l" t="t" r="r" b="b"/>
            <a:pathLst>
              <a:path w="845" h="1067">
                <a:moveTo>
                  <a:pt x="4415" y="14560"/>
                </a:moveTo>
                <a:cubicBezTo>
                  <a:pt x="4458" y="14709"/>
                  <a:pt x="4484" y="14852"/>
                  <a:pt x="4490" y="15007"/>
                </a:cubicBezTo>
                <a:cubicBezTo>
                  <a:pt x="4490" y="15048"/>
                  <a:pt x="4490" y="15072"/>
                  <a:pt x="4490" y="15032"/>
                </a:cubicBezTo>
              </a:path>
              <a:path w="845" h="1067">
                <a:moveTo>
                  <a:pt x="4663" y="14610"/>
                </a:moveTo>
                <a:cubicBezTo>
                  <a:pt x="4756" y="14610"/>
                  <a:pt x="4911" y="14574"/>
                  <a:pt x="4986" y="14635"/>
                </a:cubicBezTo>
                <a:cubicBezTo>
                  <a:pt x="5049" y="14686"/>
                  <a:pt x="4992" y="14823"/>
                  <a:pt x="4986" y="14883"/>
                </a:cubicBezTo>
                <a:cubicBezTo>
                  <a:pt x="4979" y="14959"/>
                  <a:pt x="4983" y="15030"/>
                  <a:pt x="4961" y="15032"/>
                </a:cubicBezTo>
              </a:path>
              <a:path w="845" h="1067">
                <a:moveTo>
                  <a:pt x="5259" y="14238"/>
                </a:moveTo>
                <a:cubicBezTo>
                  <a:pt x="5250" y="14552"/>
                  <a:pt x="5185" y="14846"/>
                  <a:pt x="5159" y="15156"/>
                </a:cubicBezTo>
                <a:cubicBezTo>
                  <a:pt x="5159" y="15247"/>
                  <a:pt x="5159" y="15255"/>
                  <a:pt x="5159" y="15304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03640" y="5303880"/>
            <a:ext cx="9360" cy="196920"/>
          </a:xfrm>
          <a:custGeom>
            <a:avLst/>
            <a:gdLst/>
            <a:ahLst/>
            <a:rect l="l" t="t" r="r" b="b"/>
            <a:pathLst>
              <a:path w="25" h="547">
                <a:moveTo>
                  <a:pt x="6424" y="14734"/>
                </a:moveTo>
                <a:cubicBezTo>
                  <a:pt x="6424" y="14910"/>
                  <a:pt x="6407" y="15080"/>
                  <a:pt x="6400" y="15255"/>
                </a:cubicBezTo>
                <a:cubicBezTo>
                  <a:pt x="6400" y="15288"/>
                  <a:pt x="6400" y="15288"/>
                  <a:pt x="6400" y="15230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5249880"/>
            <a:ext cx="160560" cy="287280"/>
          </a:xfrm>
          <a:custGeom>
            <a:avLst/>
            <a:gdLst/>
            <a:ahLst/>
            <a:rect l="l" t="t" r="r" b="b"/>
            <a:pathLst>
              <a:path w="448" h="795">
                <a:moveTo>
                  <a:pt x="6970" y="14759"/>
                </a:moveTo>
                <a:cubicBezTo>
                  <a:pt x="6884" y="14773"/>
                  <a:pt x="6784" y="14818"/>
                  <a:pt x="6722" y="14883"/>
                </a:cubicBezTo>
                <a:cubicBezTo>
                  <a:pt x="6714" y="14899"/>
                  <a:pt x="6705" y="14916"/>
                  <a:pt x="6697" y="14932"/>
                </a:cubicBezTo>
                <a:cubicBezTo>
                  <a:pt x="6759" y="15025"/>
                  <a:pt x="6878" y="15079"/>
                  <a:pt x="6921" y="15180"/>
                </a:cubicBezTo>
                <a:cubicBezTo>
                  <a:pt x="6962" y="15276"/>
                  <a:pt x="6842" y="15272"/>
                  <a:pt x="6796" y="15280"/>
                </a:cubicBezTo>
                <a:cubicBezTo>
                  <a:pt x="6736" y="15176"/>
                  <a:pt x="6843" y="15077"/>
                  <a:pt x="6896" y="14982"/>
                </a:cubicBezTo>
                <a:cubicBezTo>
                  <a:pt x="6921" y="14936"/>
                  <a:pt x="6921" y="14928"/>
                  <a:pt x="6921" y="14883"/>
                </a:cubicBezTo>
              </a:path>
              <a:path w="448" h="795">
                <a:moveTo>
                  <a:pt x="7094" y="14585"/>
                </a:moveTo>
                <a:cubicBezTo>
                  <a:pt x="7127" y="14847"/>
                  <a:pt x="7136" y="15113"/>
                  <a:pt x="7144" y="1537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 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Page 2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. 2 spaces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6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lute value is never zero because it is the distance from zero and distance is never neg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6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60 + 25 + -10 + 25 = 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6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negative numbers to show red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6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 three negative integers is always negative 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6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 Kyra 2; Mark 3    B)  0    C)  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6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score 0 with 5 correct 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6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$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13000" y="318780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6449" y="8855"/>
                </a:moveTo>
                <a:cubicBezTo>
                  <a:pt x="6441" y="8855"/>
                  <a:pt x="6432" y="8855"/>
                  <a:pt x="6424" y="8855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51200" y="1982880"/>
            <a:ext cx="588960" cy="374400"/>
          </a:xfrm>
          <a:custGeom>
            <a:avLst/>
            <a:gdLst/>
            <a:ahLst/>
            <a:rect l="l" t="t" r="r" b="b"/>
            <a:pathLst>
              <a:path w="1638" h="1042">
                <a:moveTo>
                  <a:pt x="10716" y="6474"/>
                </a:moveTo>
                <a:cubicBezTo>
                  <a:pt x="10792" y="6441"/>
                  <a:pt x="10850" y="6416"/>
                  <a:pt x="10939" y="6424"/>
                </a:cubicBezTo>
                <a:cubicBezTo>
                  <a:pt x="11143" y="6443"/>
                  <a:pt x="11356" y="6446"/>
                  <a:pt x="11559" y="6474"/>
                </a:cubicBezTo>
                <a:cubicBezTo>
                  <a:pt x="11664" y="6488"/>
                  <a:pt x="11749" y="6499"/>
                  <a:pt x="11857" y="6499"/>
                </a:cubicBezTo>
                <a:cubicBezTo>
                  <a:pt x="11900" y="6499"/>
                  <a:pt x="12069" y="6487"/>
                  <a:pt x="12030" y="6499"/>
                </a:cubicBezTo>
                <a:cubicBezTo>
                  <a:pt x="12005" y="6507"/>
                  <a:pt x="11981" y="6516"/>
                  <a:pt x="11956" y="6524"/>
                </a:cubicBezTo>
              </a:path>
              <a:path w="1638" h="1042">
                <a:moveTo>
                  <a:pt x="10418" y="5606"/>
                </a:moveTo>
                <a:cubicBezTo>
                  <a:pt x="10463" y="5621"/>
                  <a:pt x="10521" y="5749"/>
                  <a:pt x="10542" y="5804"/>
                </a:cubicBezTo>
                <a:cubicBezTo>
                  <a:pt x="10563" y="5859"/>
                  <a:pt x="10567" y="5987"/>
                  <a:pt x="10567" y="5928"/>
                </a:cubicBezTo>
                <a:cubicBezTo>
                  <a:pt x="10547" y="5843"/>
                  <a:pt x="10492" y="5687"/>
                  <a:pt x="10592" y="5631"/>
                </a:cubicBezTo>
                <a:cubicBezTo>
                  <a:pt x="10725" y="5556"/>
                  <a:pt x="10810" y="5771"/>
                  <a:pt x="10840" y="5854"/>
                </a:cubicBezTo>
                <a:cubicBezTo>
                  <a:pt x="10862" y="5946"/>
                  <a:pt x="10868" y="5971"/>
                  <a:pt x="10889" y="6028"/>
                </a:cubicBezTo>
              </a:path>
              <a:path w="1638" h="1042">
                <a:moveTo>
                  <a:pt x="10939" y="5854"/>
                </a:moveTo>
                <a:cubicBezTo>
                  <a:pt x="11019" y="5789"/>
                  <a:pt x="11124" y="5770"/>
                  <a:pt x="11187" y="5680"/>
                </a:cubicBezTo>
                <a:cubicBezTo>
                  <a:pt x="11195" y="5655"/>
                  <a:pt x="11204" y="5631"/>
                  <a:pt x="11212" y="5606"/>
                </a:cubicBezTo>
                <a:cubicBezTo>
                  <a:pt x="11120" y="5495"/>
                  <a:pt x="11003" y="5618"/>
                  <a:pt x="10939" y="5730"/>
                </a:cubicBezTo>
                <a:cubicBezTo>
                  <a:pt x="10839" y="5906"/>
                  <a:pt x="11039" y="6086"/>
                  <a:pt x="11212" y="6003"/>
                </a:cubicBezTo>
                <a:cubicBezTo>
                  <a:pt x="11262" y="5962"/>
                  <a:pt x="11311" y="5920"/>
                  <a:pt x="11361" y="5879"/>
                </a:cubicBezTo>
              </a:path>
              <a:path w="1638" h="1042">
                <a:moveTo>
                  <a:pt x="11534" y="5531"/>
                </a:moveTo>
                <a:cubicBezTo>
                  <a:pt x="11452" y="5516"/>
                  <a:pt x="11385" y="5655"/>
                  <a:pt x="11385" y="5755"/>
                </a:cubicBezTo>
                <a:cubicBezTo>
                  <a:pt x="11385" y="5915"/>
                  <a:pt x="11507" y="5782"/>
                  <a:pt x="11534" y="5730"/>
                </a:cubicBezTo>
                <a:cubicBezTo>
                  <a:pt x="11551" y="5689"/>
                  <a:pt x="11567" y="5647"/>
                  <a:pt x="11584" y="5606"/>
                </a:cubicBezTo>
                <a:cubicBezTo>
                  <a:pt x="11584" y="5598"/>
                  <a:pt x="11584" y="5589"/>
                  <a:pt x="11584" y="5581"/>
                </a:cubicBezTo>
                <a:cubicBezTo>
                  <a:pt x="11584" y="5754"/>
                  <a:pt x="11658" y="5905"/>
                  <a:pt x="11658" y="6077"/>
                </a:cubicBezTo>
                <a:cubicBezTo>
                  <a:pt x="11658" y="6281"/>
                  <a:pt x="11573" y="6537"/>
                  <a:pt x="11336" y="6548"/>
                </a:cubicBezTo>
                <a:cubicBezTo>
                  <a:pt x="11212" y="6524"/>
                  <a:pt x="11171" y="6516"/>
                  <a:pt x="11137" y="6424"/>
                </a:cubicBezTo>
              </a:path>
              <a:path w="1638" h="1042">
                <a:moveTo>
                  <a:pt x="11807" y="6003"/>
                </a:moveTo>
                <a:lnTo>
                  <a:pt x="11807" y="6003"/>
                </a:ln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:  Students will subtract integ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tracting integers is the same as adding the oppo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Keep Chang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Follow rules for adding 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2 – 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 + (-9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Keep Change 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ollow addition rul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25360" y="4491000"/>
            <a:ext cx="303480" cy="233280"/>
          </a:xfrm>
          <a:custGeom>
            <a:avLst/>
            <a:gdLst/>
            <a:ahLst/>
            <a:rect l="l" t="t" r="r" b="b"/>
            <a:pathLst>
              <a:path w="845" h="646">
                <a:moveTo>
                  <a:pt x="3373" y="12526"/>
                </a:moveTo>
                <a:cubicBezTo>
                  <a:pt x="3485" y="12526"/>
                  <a:pt x="3587" y="12511"/>
                  <a:pt x="3696" y="12502"/>
                </a:cubicBezTo>
                <a:cubicBezTo>
                  <a:pt x="3743" y="12498"/>
                  <a:pt x="3796" y="12502"/>
                  <a:pt x="3845" y="12502"/>
                </a:cubicBezTo>
                <a:cubicBezTo>
                  <a:pt x="3719" y="12502"/>
                  <a:pt x="3600" y="12523"/>
                  <a:pt x="3473" y="12526"/>
                </a:cubicBezTo>
                <a:cubicBezTo>
                  <a:pt x="3398" y="12528"/>
                  <a:pt x="3275" y="12538"/>
                  <a:pt x="3349" y="12526"/>
                </a:cubicBezTo>
                <a:cubicBezTo>
                  <a:pt x="3541" y="12494"/>
                  <a:pt x="3730" y="12489"/>
                  <a:pt x="3919" y="12502"/>
                </a:cubicBezTo>
                <a:cubicBezTo>
                  <a:pt x="3936" y="12502"/>
                  <a:pt x="3952" y="12502"/>
                  <a:pt x="3969" y="12502"/>
                </a:cubicBezTo>
                <a:cubicBezTo>
                  <a:pt x="3827" y="12522"/>
                  <a:pt x="3693" y="12526"/>
                  <a:pt x="3547" y="12526"/>
                </a:cubicBezTo>
                <a:cubicBezTo>
                  <a:pt x="3497" y="12526"/>
                  <a:pt x="3398" y="12526"/>
                  <a:pt x="3448" y="12526"/>
                </a:cubicBezTo>
                <a:cubicBezTo>
                  <a:pt x="3596" y="12497"/>
                  <a:pt x="3742" y="12502"/>
                  <a:pt x="3894" y="12502"/>
                </a:cubicBezTo>
                <a:cubicBezTo>
                  <a:pt x="3902" y="12502"/>
                  <a:pt x="3911" y="12502"/>
                  <a:pt x="3919" y="12502"/>
                </a:cubicBezTo>
              </a:path>
              <a:path w="845" h="646">
                <a:moveTo>
                  <a:pt x="3597" y="12973"/>
                </a:moveTo>
                <a:cubicBezTo>
                  <a:pt x="3566" y="12927"/>
                  <a:pt x="3542" y="12973"/>
                  <a:pt x="3497" y="12948"/>
                </a:cubicBezTo>
                <a:cubicBezTo>
                  <a:pt x="3489" y="12940"/>
                  <a:pt x="3481" y="12931"/>
                  <a:pt x="3473" y="12923"/>
                </a:cubicBezTo>
                <a:cubicBezTo>
                  <a:pt x="3473" y="12989"/>
                  <a:pt x="3473" y="13056"/>
                  <a:pt x="3473" y="13122"/>
                </a:cubicBezTo>
              </a:path>
              <a:path w="845" h="646">
                <a:moveTo>
                  <a:pt x="3423" y="12799"/>
                </a:moveTo>
                <a:cubicBezTo>
                  <a:pt x="3434" y="12743"/>
                  <a:pt x="3448" y="12709"/>
                  <a:pt x="3448" y="12650"/>
                </a:cubicBezTo>
                <a:cubicBezTo>
                  <a:pt x="3448" y="12619"/>
                  <a:pt x="3466" y="12606"/>
                  <a:pt x="3473" y="12576"/>
                </a:cubicBezTo>
              </a:path>
              <a:path w="845" h="646">
                <a:moveTo>
                  <a:pt x="3125" y="12750"/>
                </a:moveTo>
                <a:cubicBezTo>
                  <a:pt x="3225" y="12758"/>
                  <a:pt x="3286" y="12786"/>
                  <a:pt x="3373" y="12824"/>
                </a:cubicBezTo>
                <a:cubicBezTo>
                  <a:pt x="3432" y="12850"/>
                  <a:pt x="3476" y="12869"/>
                  <a:pt x="3497" y="12824"/>
                </a:cubicBezTo>
                <a:cubicBezTo>
                  <a:pt x="3526" y="12761"/>
                  <a:pt x="3573" y="12723"/>
                  <a:pt x="3621" y="12675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41320" y="3286080"/>
            <a:ext cx="920880" cy="44640"/>
          </a:xfrm>
          <a:custGeom>
            <a:avLst/>
            <a:gdLst/>
            <a:ahLst/>
            <a:rect l="l" t="t" r="r" b="b"/>
            <a:pathLst>
              <a:path w="2556" h="125">
                <a:moveTo>
                  <a:pt x="4862" y="9227"/>
                </a:moveTo>
                <a:cubicBezTo>
                  <a:pt x="4854" y="9227"/>
                  <a:pt x="4845" y="9227"/>
                  <a:pt x="4837" y="9227"/>
                </a:cubicBezTo>
                <a:cubicBezTo>
                  <a:pt x="4889" y="9156"/>
                  <a:pt x="4786" y="9190"/>
                  <a:pt x="4961" y="9153"/>
                </a:cubicBezTo>
                <a:cubicBezTo>
                  <a:pt x="5149" y="9113"/>
                  <a:pt x="5340" y="9128"/>
                  <a:pt x="5531" y="9128"/>
                </a:cubicBezTo>
                <a:cubicBezTo>
                  <a:pt x="5701" y="9128"/>
                  <a:pt x="5861" y="9142"/>
                  <a:pt x="6028" y="9153"/>
                </a:cubicBezTo>
                <a:cubicBezTo>
                  <a:pt x="6185" y="9164"/>
                  <a:pt x="6344" y="9167"/>
                  <a:pt x="6499" y="9178"/>
                </a:cubicBezTo>
                <a:cubicBezTo>
                  <a:pt x="6649" y="9189"/>
                  <a:pt x="6823" y="9256"/>
                  <a:pt x="6970" y="9252"/>
                </a:cubicBezTo>
                <a:cubicBezTo>
                  <a:pt x="7078" y="9249"/>
                  <a:pt x="7237" y="9230"/>
                  <a:pt x="7342" y="9203"/>
                </a:cubicBezTo>
                <a:cubicBezTo>
                  <a:pt x="7365" y="9180"/>
                  <a:pt x="7369" y="9172"/>
                  <a:pt x="7392" y="9178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00080" y="3205080"/>
            <a:ext cx="500040" cy="36720"/>
          </a:xfrm>
          <a:custGeom>
            <a:avLst/>
            <a:gdLst/>
            <a:ahLst/>
            <a:rect l="l" t="t" r="r" b="b"/>
            <a:pathLst>
              <a:path w="1390" h="100">
                <a:moveTo>
                  <a:pt x="2778" y="9004"/>
                </a:moveTo>
                <a:cubicBezTo>
                  <a:pt x="2796" y="8933"/>
                  <a:pt x="2873" y="8936"/>
                  <a:pt x="2952" y="8930"/>
                </a:cubicBezTo>
                <a:cubicBezTo>
                  <a:pt x="3159" y="8915"/>
                  <a:pt x="3367" y="8922"/>
                  <a:pt x="3572" y="8905"/>
                </a:cubicBezTo>
                <a:cubicBezTo>
                  <a:pt x="3767" y="8889"/>
                  <a:pt x="3971" y="8905"/>
                  <a:pt x="4167" y="8905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4037040"/>
            <a:ext cx="1384200" cy="1490760"/>
          </a:xfrm>
          <a:custGeom>
            <a:avLst/>
            <a:gdLst/>
            <a:ahLst/>
            <a:rect l="l" t="t" r="r" b="b"/>
            <a:pathLst>
              <a:path w="3845" h="4143">
                <a:moveTo>
                  <a:pt x="2977" y="12750"/>
                </a:moveTo>
                <a:cubicBezTo>
                  <a:pt x="3055" y="12771"/>
                  <a:pt x="3135" y="12787"/>
                  <a:pt x="3225" y="12799"/>
                </a:cubicBezTo>
                <a:cubicBezTo>
                  <a:pt x="3492" y="12833"/>
                  <a:pt x="3750" y="12876"/>
                  <a:pt x="4018" y="12898"/>
                </a:cubicBezTo>
                <a:cubicBezTo>
                  <a:pt x="4265" y="12918"/>
                  <a:pt x="4516" y="12922"/>
                  <a:pt x="4762" y="12948"/>
                </a:cubicBezTo>
                <a:cubicBezTo>
                  <a:pt x="5034" y="12976"/>
                  <a:pt x="5311" y="13014"/>
                  <a:pt x="5581" y="13047"/>
                </a:cubicBezTo>
                <a:cubicBezTo>
                  <a:pt x="5766" y="13069"/>
                  <a:pt x="5926" y="13046"/>
                  <a:pt x="6102" y="12973"/>
                </a:cubicBezTo>
                <a:cubicBezTo>
                  <a:pt x="6224" y="12922"/>
                  <a:pt x="6372" y="12830"/>
                  <a:pt x="6474" y="12750"/>
                </a:cubicBezTo>
                <a:cubicBezTo>
                  <a:pt x="6561" y="12682"/>
                  <a:pt x="6646" y="12585"/>
                  <a:pt x="6672" y="12477"/>
                </a:cubicBezTo>
                <a:cubicBezTo>
                  <a:pt x="6709" y="12321"/>
                  <a:pt x="6676" y="12113"/>
                  <a:pt x="6598" y="11981"/>
                </a:cubicBezTo>
                <a:cubicBezTo>
                  <a:pt x="6533" y="11870"/>
                  <a:pt x="6450" y="11765"/>
                  <a:pt x="6350" y="11683"/>
                </a:cubicBezTo>
                <a:cubicBezTo>
                  <a:pt x="6243" y="11595"/>
                  <a:pt x="6100" y="11525"/>
                  <a:pt x="5978" y="11460"/>
                </a:cubicBezTo>
                <a:cubicBezTo>
                  <a:pt x="5785" y="11358"/>
                  <a:pt x="5569" y="11284"/>
                  <a:pt x="5358" y="11237"/>
                </a:cubicBezTo>
                <a:cubicBezTo>
                  <a:pt x="5164" y="11194"/>
                  <a:pt x="4960" y="11212"/>
                  <a:pt x="4762" y="11212"/>
                </a:cubicBezTo>
                <a:cubicBezTo>
                  <a:pt x="4558" y="11212"/>
                  <a:pt x="4335" y="11237"/>
                  <a:pt x="4142" y="11311"/>
                </a:cubicBezTo>
                <a:cubicBezTo>
                  <a:pt x="3948" y="11386"/>
                  <a:pt x="3760" y="11469"/>
                  <a:pt x="3572" y="11559"/>
                </a:cubicBezTo>
                <a:cubicBezTo>
                  <a:pt x="3402" y="11641"/>
                  <a:pt x="3135" y="11723"/>
                  <a:pt x="3001" y="11857"/>
                </a:cubicBezTo>
                <a:cubicBezTo>
                  <a:pt x="2938" y="11920"/>
                  <a:pt x="2873" y="11984"/>
                  <a:pt x="2853" y="12055"/>
                </a:cubicBezTo>
                <a:cubicBezTo>
                  <a:pt x="2818" y="12181"/>
                  <a:pt x="2831" y="12277"/>
                  <a:pt x="2853" y="12402"/>
                </a:cubicBezTo>
                <a:cubicBezTo>
                  <a:pt x="2884" y="12581"/>
                  <a:pt x="2973" y="12641"/>
                  <a:pt x="3125" y="12675"/>
                </a:cubicBezTo>
                <a:cubicBezTo>
                  <a:pt x="3276" y="12708"/>
                  <a:pt x="3423" y="12676"/>
                  <a:pt x="3572" y="12700"/>
                </a:cubicBezTo>
                <a:cubicBezTo>
                  <a:pt x="3605" y="12705"/>
                  <a:pt x="3614" y="12717"/>
                  <a:pt x="3646" y="12725"/>
                </a:cubicBezTo>
              </a:path>
              <a:path w="3845" h="4143">
                <a:moveTo>
                  <a:pt x="4217" y="12502"/>
                </a:moveTo>
                <a:cubicBezTo>
                  <a:pt x="4303" y="12534"/>
                  <a:pt x="4414" y="12581"/>
                  <a:pt x="4514" y="12576"/>
                </a:cubicBezTo>
                <a:cubicBezTo>
                  <a:pt x="4679" y="12568"/>
                  <a:pt x="4818" y="12536"/>
                  <a:pt x="4961" y="12452"/>
                </a:cubicBezTo>
                <a:cubicBezTo>
                  <a:pt x="5110" y="12365"/>
                  <a:pt x="5169" y="12200"/>
                  <a:pt x="5135" y="12030"/>
                </a:cubicBezTo>
                <a:cubicBezTo>
                  <a:pt x="5101" y="11858"/>
                  <a:pt x="5024" y="11795"/>
                  <a:pt x="4887" y="11708"/>
                </a:cubicBezTo>
                <a:cubicBezTo>
                  <a:pt x="4771" y="11635"/>
                  <a:pt x="4676" y="11613"/>
                  <a:pt x="4539" y="11609"/>
                </a:cubicBezTo>
                <a:cubicBezTo>
                  <a:pt x="4357" y="11604"/>
                  <a:pt x="4213" y="11701"/>
                  <a:pt x="4093" y="11832"/>
                </a:cubicBezTo>
                <a:cubicBezTo>
                  <a:pt x="3982" y="11953"/>
                  <a:pt x="3918" y="12107"/>
                  <a:pt x="4018" y="12254"/>
                </a:cubicBezTo>
                <a:cubicBezTo>
                  <a:pt x="4098" y="12372"/>
                  <a:pt x="4236" y="12397"/>
                  <a:pt x="4366" y="12402"/>
                </a:cubicBezTo>
                <a:cubicBezTo>
                  <a:pt x="4399" y="12403"/>
                  <a:pt x="4432" y="12402"/>
                  <a:pt x="4465" y="12402"/>
                </a:cubicBezTo>
              </a:path>
              <a:path w="3845" h="4143">
                <a:moveTo>
                  <a:pt x="4366" y="12526"/>
                </a:moveTo>
                <a:cubicBezTo>
                  <a:pt x="4333" y="12580"/>
                  <a:pt x="4330" y="12660"/>
                  <a:pt x="4316" y="12725"/>
                </a:cubicBezTo>
                <a:cubicBezTo>
                  <a:pt x="4316" y="12753"/>
                  <a:pt x="4318" y="12764"/>
                  <a:pt x="4341" y="12774"/>
                </a:cubicBezTo>
              </a:path>
              <a:path w="3845" h="4143">
                <a:moveTo>
                  <a:pt x="4192" y="12626"/>
                </a:moveTo>
                <a:cubicBezTo>
                  <a:pt x="4184" y="12626"/>
                  <a:pt x="4175" y="12626"/>
                  <a:pt x="4167" y="12626"/>
                </a:cubicBezTo>
                <a:cubicBezTo>
                  <a:pt x="4190" y="12670"/>
                  <a:pt x="4259" y="12771"/>
                  <a:pt x="4316" y="12799"/>
                </a:cubicBezTo>
                <a:cubicBezTo>
                  <a:pt x="4338" y="12810"/>
                  <a:pt x="4351" y="12838"/>
                  <a:pt x="4390" y="12824"/>
                </a:cubicBezTo>
                <a:cubicBezTo>
                  <a:pt x="4431" y="12809"/>
                  <a:pt x="4537" y="12735"/>
                  <a:pt x="4564" y="12700"/>
                </a:cubicBezTo>
                <a:cubicBezTo>
                  <a:pt x="4564" y="12692"/>
                  <a:pt x="4564" y="12683"/>
                  <a:pt x="4564" y="12675"/>
                </a:cubicBezTo>
              </a:path>
              <a:path w="3845" h="4143">
                <a:moveTo>
                  <a:pt x="5135" y="12402"/>
                </a:moveTo>
                <a:cubicBezTo>
                  <a:pt x="5172" y="12374"/>
                  <a:pt x="5164" y="12344"/>
                  <a:pt x="5184" y="12328"/>
                </a:cubicBezTo>
                <a:cubicBezTo>
                  <a:pt x="5209" y="12328"/>
                  <a:pt x="5217" y="12328"/>
                  <a:pt x="5209" y="12303"/>
                </a:cubicBezTo>
                <a:cubicBezTo>
                  <a:pt x="5298" y="12393"/>
                  <a:pt x="5314" y="12498"/>
                  <a:pt x="5383" y="12601"/>
                </a:cubicBezTo>
                <a:cubicBezTo>
                  <a:pt x="5422" y="12640"/>
                  <a:pt x="5438" y="12641"/>
                  <a:pt x="5432" y="12675"/>
                </a:cubicBezTo>
              </a:path>
              <a:path w="3845" h="4143">
                <a:moveTo>
                  <a:pt x="5209" y="12626"/>
                </a:moveTo>
                <a:cubicBezTo>
                  <a:pt x="5289" y="12672"/>
                  <a:pt x="5363" y="12716"/>
                  <a:pt x="5457" y="12725"/>
                </a:cubicBezTo>
                <a:cubicBezTo>
                  <a:pt x="5543" y="12733"/>
                  <a:pt x="5579" y="12571"/>
                  <a:pt x="5631" y="12526"/>
                </a:cubicBezTo>
                <a:cubicBezTo>
                  <a:pt x="5631" y="12551"/>
                  <a:pt x="5631" y="12559"/>
                  <a:pt x="5631" y="12576"/>
                </a:cubicBezTo>
              </a:path>
              <a:path w="3845" h="4143">
                <a:moveTo>
                  <a:pt x="5779" y="13915"/>
                </a:moveTo>
                <a:cubicBezTo>
                  <a:pt x="5711" y="13890"/>
                  <a:pt x="5616" y="13869"/>
                  <a:pt x="5556" y="13841"/>
                </a:cubicBezTo>
                <a:cubicBezTo>
                  <a:pt x="5420" y="13777"/>
                  <a:pt x="5337" y="13767"/>
                  <a:pt x="5184" y="13767"/>
                </a:cubicBezTo>
                <a:cubicBezTo>
                  <a:pt x="5016" y="13767"/>
                  <a:pt x="4819" y="13772"/>
                  <a:pt x="4663" y="13841"/>
                </a:cubicBezTo>
                <a:cubicBezTo>
                  <a:pt x="4501" y="13913"/>
                  <a:pt x="4357" y="14034"/>
                  <a:pt x="4217" y="14139"/>
                </a:cubicBezTo>
                <a:cubicBezTo>
                  <a:pt x="4090" y="14234"/>
                  <a:pt x="3994" y="14341"/>
                  <a:pt x="3994" y="14511"/>
                </a:cubicBezTo>
                <a:cubicBezTo>
                  <a:pt x="3994" y="14682"/>
                  <a:pt x="4069" y="14955"/>
                  <a:pt x="4192" y="15081"/>
                </a:cubicBezTo>
                <a:cubicBezTo>
                  <a:pt x="4456" y="15351"/>
                  <a:pt x="4979" y="15404"/>
                  <a:pt x="5333" y="15354"/>
                </a:cubicBezTo>
                <a:cubicBezTo>
                  <a:pt x="5612" y="15315"/>
                  <a:pt x="5851" y="15204"/>
                  <a:pt x="6052" y="15007"/>
                </a:cubicBezTo>
                <a:cubicBezTo>
                  <a:pt x="6236" y="14826"/>
                  <a:pt x="6355" y="14571"/>
                  <a:pt x="6276" y="14312"/>
                </a:cubicBezTo>
                <a:cubicBezTo>
                  <a:pt x="6206" y="14082"/>
                  <a:pt x="5994" y="13949"/>
                  <a:pt x="5779" y="13891"/>
                </a:cubicBezTo>
                <a:cubicBezTo>
                  <a:pt x="5738" y="13880"/>
                  <a:pt x="5421" y="13796"/>
                  <a:pt x="5383" y="13841"/>
                </a:cubicBezTo>
                <a:cubicBezTo>
                  <a:pt x="5383" y="13891"/>
                  <a:pt x="5383" y="13924"/>
                  <a:pt x="5383" y="13965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9920" y="2874960"/>
            <a:ext cx="401760" cy="339840"/>
          </a:xfrm>
          <a:custGeom>
            <a:avLst/>
            <a:gdLst/>
            <a:ahLst/>
            <a:rect l="l" t="t" r="r" b="b"/>
            <a:pathLst>
              <a:path w="1118" h="944">
                <a:moveTo>
                  <a:pt x="471" y="8285"/>
                </a:moveTo>
                <a:cubicBezTo>
                  <a:pt x="517" y="8251"/>
                  <a:pt x="539" y="8270"/>
                  <a:pt x="595" y="8285"/>
                </a:cubicBezTo>
                <a:cubicBezTo>
                  <a:pt x="717" y="8319"/>
                  <a:pt x="839" y="8331"/>
                  <a:pt x="967" y="8334"/>
                </a:cubicBezTo>
                <a:cubicBezTo>
                  <a:pt x="1109" y="8337"/>
                  <a:pt x="1274" y="8336"/>
                  <a:pt x="1414" y="8359"/>
                </a:cubicBezTo>
                <a:cubicBezTo>
                  <a:pt x="1468" y="8368"/>
                  <a:pt x="1500" y="8381"/>
                  <a:pt x="1538" y="8409"/>
                </a:cubicBezTo>
              </a:path>
              <a:path w="1118" h="944">
                <a:moveTo>
                  <a:pt x="595" y="8558"/>
                </a:moveTo>
                <a:cubicBezTo>
                  <a:pt x="738" y="8558"/>
                  <a:pt x="873" y="8580"/>
                  <a:pt x="1017" y="8582"/>
                </a:cubicBezTo>
                <a:cubicBezTo>
                  <a:pt x="1101" y="8583"/>
                  <a:pt x="1298" y="8569"/>
                  <a:pt x="1339" y="8632"/>
                </a:cubicBezTo>
              </a:path>
              <a:path w="1118" h="944">
                <a:moveTo>
                  <a:pt x="1141" y="8012"/>
                </a:moveTo>
                <a:cubicBezTo>
                  <a:pt x="1160" y="7956"/>
                  <a:pt x="1238" y="7996"/>
                  <a:pt x="1290" y="8012"/>
                </a:cubicBezTo>
                <a:cubicBezTo>
                  <a:pt x="1385" y="8042"/>
                  <a:pt x="1482" y="8070"/>
                  <a:pt x="1538" y="8161"/>
                </a:cubicBezTo>
                <a:cubicBezTo>
                  <a:pt x="1557" y="8191"/>
                  <a:pt x="1540" y="8186"/>
                  <a:pt x="1588" y="8186"/>
                </a:cubicBezTo>
                <a:cubicBezTo>
                  <a:pt x="1588" y="8311"/>
                  <a:pt x="1539" y="8379"/>
                  <a:pt x="1463" y="8483"/>
                </a:cubicBezTo>
                <a:cubicBezTo>
                  <a:pt x="1365" y="8617"/>
                  <a:pt x="1254" y="8707"/>
                  <a:pt x="1240" y="8880"/>
                </a:cubicBezTo>
                <a:cubicBezTo>
                  <a:pt x="1234" y="8955"/>
                  <a:pt x="1256" y="8931"/>
                  <a:pt x="1290" y="8880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8760" y="1258920"/>
            <a:ext cx="866520" cy="500040"/>
          </a:xfrm>
          <a:custGeom>
            <a:avLst/>
            <a:gdLst/>
            <a:ahLst/>
            <a:rect l="l" t="t" r="r" b="b"/>
            <a:pathLst>
              <a:path w="2407" h="1391">
                <a:moveTo>
                  <a:pt x="1191" y="4018"/>
                </a:moveTo>
                <a:cubicBezTo>
                  <a:pt x="1191" y="3887"/>
                  <a:pt x="1286" y="4213"/>
                  <a:pt x="1315" y="4341"/>
                </a:cubicBezTo>
                <a:cubicBezTo>
                  <a:pt x="1355" y="4516"/>
                  <a:pt x="1364" y="4707"/>
                  <a:pt x="1364" y="4887"/>
                </a:cubicBezTo>
              </a:path>
              <a:path w="2407" h="1391">
                <a:moveTo>
                  <a:pt x="1488" y="3746"/>
                </a:moveTo>
                <a:cubicBezTo>
                  <a:pt x="1467" y="3932"/>
                  <a:pt x="1384" y="4026"/>
                  <a:pt x="1315" y="4192"/>
                </a:cubicBezTo>
                <a:cubicBezTo>
                  <a:pt x="1294" y="4276"/>
                  <a:pt x="1292" y="4295"/>
                  <a:pt x="1265" y="4341"/>
                </a:cubicBezTo>
                <a:cubicBezTo>
                  <a:pt x="1307" y="4327"/>
                  <a:pt x="1362" y="4230"/>
                  <a:pt x="1439" y="4242"/>
                </a:cubicBezTo>
                <a:cubicBezTo>
                  <a:pt x="1600" y="4267"/>
                  <a:pt x="1712" y="4432"/>
                  <a:pt x="1761" y="4564"/>
                </a:cubicBezTo>
                <a:cubicBezTo>
                  <a:pt x="1792" y="4648"/>
                  <a:pt x="1765" y="4735"/>
                  <a:pt x="1811" y="4614"/>
                </a:cubicBezTo>
              </a:path>
              <a:path w="2407" h="1391">
                <a:moveTo>
                  <a:pt x="2431" y="3820"/>
                </a:moveTo>
                <a:cubicBezTo>
                  <a:pt x="2499" y="3999"/>
                  <a:pt x="2393" y="3738"/>
                  <a:pt x="2332" y="3696"/>
                </a:cubicBezTo>
                <a:cubicBezTo>
                  <a:pt x="2144" y="3566"/>
                  <a:pt x="2046" y="3843"/>
                  <a:pt x="2009" y="3969"/>
                </a:cubicBezTo>
                <a:cubicBezTo>
                  <a:pt x="1960" y="4137"/>
                  <a:pt x="1879" y="4620"/>
                  <a:pt x="2208" y="4539"/>
                </a:cubicBezTo>
                <a:cubicBezTo>
                  <a:pt x="2413" y="4436"/>
                  <a:pt x="2485" y="4397"/>
                  <a:pt x="2580" y="4266"/>
                </a:cubicBezTo>
              </a:path>
              <a:path w="2407" h="1391">
                <a:moveTo>
                  <a:pt x="3175" y="3671"/>
                </a:moveTo>
                <a:cubicBezTo>
                  <a:pt x="3242" y="3715"/>
                  <a:pt x="3165" y="3570"/>
                  <a:pt x="3101" y="3522"/>
                </a:cubicBezTo>
                <a:cubicBezTo>
                  <a:pt x="3076" y="3514"/>
                  <a:pt x="3051" y="3505"/>
                  <a:pt x="3026" y="3497"/>
                </a:cubicBezTo>
                <a:cubicBezTo>
                  <a:pt x="2845" y="3622"/>
                  <a:pt x="2672" y="3819"/>
                  <a:pt x="2704" y="4068"/>
                </a:cubicBezTo>
                <a:cubicBezTo>
                  <a:pt x="2751" y="4439"/>
                  <a:pt x="3306" y="4217"/>
                  <a:pt x="3473" y="4093"/>
                </a:cubicBezTo>
                <a:cubicBezTo>
                  <a:pt x="3514" y="4043"/>
                  <a:pt x="3556" y="3994"/>
                  <a:pt x="3597" y="3944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8960" y="2732040"/>
            <a:ext cx="1179360" cy="312840"/>
          </a:xfrm>
          <a:custGeom>
            <a:avLst/>
            <a:gdLst/>
            <a:ahLst/>
            <a:rect l="l" t="t" r="r" b="b"/>
            <a:pathLst>
              <a:path w="3275" h="869">
                <a:moveTo>
                  <a:pt x="5308" y="7764"/>
                </a:moveTo>
                <a:cubicBezTo>
                  <a:pt x="5226" y="7795"/>
                  <a:pt x="5142" y="7805"/>
                  <a:pt x="5085" y="7888"/>
                </a:cubicBezTo>
                <a:cubicBezTo>
                  <a:pt x="5085" y="7916"/>
                  <a:pt x="5083" y="7927"/>
                  <a:pt x="5060" y="7938"/>
                </a:cubicBezTo>
                <a:cubicBezTo>
                  <a:pt x="5160" y="7954"/>
                  <a:pt x="5257" y="7968"/>
                  <a:pt x="5358" y="7987"/>
                </a:cubicBezTo>
                <a:cubicBezTo>
                  <a:pt x="5342" y="8083"/>
                  <a:pt x="5313" y="8141"/>
                  <a:pt x="5209" y="8161"/>
                </a:cubicBezTo>
                <a:cubicBezTo>
                  <a:pt x="5140" y="8175"/>
                  <a:pt x="5091" y="8152"/>
                  <a:pt x="5060" y="8111"/>
                </a:cubicBezTo>
              </a:path>
              <a:path w="3275" h="869">
                <a:moveTo>
                  <a:pt x="5556" y="7962"/>
                </a:moveTo>
                <a:cubicBezTo>
                  <a:pt x="5577" y="8025"/>
                  <a:pt x="5589" y="8080"/>
                  <a:pt x="5631" y="8111"/>
                </a:cubicBezTo>
              </a:path>
              <a:path w="3275" h="869">
                <a:moveTo>
                  <a:pt x="5507" y="7789"/>
                </a:moveTo>
                <a:lnTo>
                  <a:pt x="5507" y="7789"/>
                </a:lnTo>
              </a:path>
              <a:path w="3275" h="869">
                <a:moveTo>
                  <a:pt x="5829" y="7913"/>
                </a:moveTo>
                <a:cubicBezTo>
                  <a:pt x="5717" y="7964"/>
                  <a:pt x="5694" y="7986"/>
                  <a:pt x="5680" y="8111"/>
                </a:cubicBezTo>
                <a:cubicBezTo>
                  <a:pt x="5787" y="8111"/>
                  <a:pt x="5818" y="8120"/>
                  <a:pt x="5854" y="8012"/>
                </a:cubicBezTo>
                <a:cubicBezTo>
                  <a:pt x="5854" y="7987"/>
                  <a:pt x="5854" y="7979"/>
                  <a:pt x="5854" y="7962"/>
                </a:cubicBezTo>
                <a:cubicBezTo>
                  <a:pt x="5874" y="8043"/>
                  <a:pt x="5940" y="8115"/>
                  <a:pt x="5953" y="8210"/>
                </a:cubicBezTo>
                <a:cubicBezTo>
                  <a:pt x="5967" y="8310"/>
                  <a:pt x="5934" y="8458"/>
                  <a:pt x="5804" y="8458"/>
                </a:cubicBezTo>
                <a:cubicBezTo>
                  <a:pt x="5722" y="8431"/>
                  <a:pt x="5695" y="8415"/>
                  <a:pt x="5705" y="8334"/>
                </a:cubicBezTo>
              </a:path>
              <a:path w="3275" h="869">
                <a:moveTo>
                  <a:pt x="6077" y="7987"/>
                </a:moveTo>
                <a:cubicBezTo>
                  <a:pt x="6096" y="8034"/>
                  <a:pt x="6116" y="8069"/>
                  <a:pt x="6127" y="8111"/>
                </a:cubicBezTo>
                <a:cubicBezTo>
                  <a:pt x="6167" y="8031"/>
                  <a:pt x="6129" y="7961"/>
                  <a:pt x="6201" y="7913"/>
                </a:cubicBezTo>
                <a:cubicBezTo>
                  <a:pt x="6224" y="7890"/>
                  <a:pt x="6228" y="7882"/>
                  <a:pt x="6251" y="7888"/>
                </a:cubicBezTo>
              </a:path>
              <a:path w="3275" h="869">
                <a:moveTo>
                  <a:pt x="4887" y="8012"/>
                </a:moveTo>
                <a:cubicBezTo>
                  <a:pt x="4923" y="7999"/>
                  <a:pt x="4911" y="7982"/>
                  <a:pt x="4911" y="7938"/>
                </a:cubicBezTo>
                <a:cubicBezTo>
                  <a:pt x="4902" y="8005"/>
                  <a:pt x="4842" y="8153"/>
                  <a:pt x="4911" y="8210"/>
                </a:cubicBezTo>
                <a:cubicBezTo>
                  <a:pt x="5007" y="8290"/>
                  <a:pt x="5194" y="8145"/>
                  <a:pt x="5234" y="8062"/>
                </a:cubicBezTo>
                <a:cubicBezTo>
                  <a:pt x="5234" y="8037"/>
                  <a:pt x="5234" y="8012"/>
                  <a:pt x="5234" y="7987"/>
                </a:cubicBezTo>
                <a:cubicBezTo>
                  <a:pt x="5159" y="7900"/>
                  <a:pt x="5096" y="7898"/>
                  <a:pt x="4986" y="7913"/>
                </a:cubicBezTo>
                <a:cubicBezTo>
                  <a:pt x="4978" y="7913"/>
                  <a:pt x="4969" y="7913"/>
                  <a:pt x="4961" y="7913"/>
                </a:cubicBezTo>
              </a:path>
              <a:path w="3275" h="869">
                <a:moveTo>
                  <a:pt x="5308" y="7813"/>
                </a:moveTo>
                <a:cubicBezTo>
                  <a:pt x="5327" y="7946"/>
                  <a:pt x="5376" y="8064"/>
                  <a:pt x="5432" y="8186"/>
                </a:cubicBezTo>
                <a:cubicBezTo>
                  <a:pt x="5452" y="8226"/>
                  <a:pt x="5461" y="8252"/>
                  <a:pt x="5457" y="8210"/>
                </a:cubicBezTo>
                <a:cubicBezTo>
                  <a:pt x="5382" y="8119"/>
                  <a:pt x="5227" y="7968"/>
                  <a:pt x="5308" y="7838"/>
                </a:cubicBezTo>
                <a:cubicBezTo>
                  <a:pt x="5418" y="7660"/>
                  <a:pt x="5628" y="7854"/>
                  <a:pt x="5705" y="7938"/>
                </a:cubicBezTo>
                <a:cubicBezTo>
                  <a:pt x="5676" y="8046"/>
                  <a:pt x="5549" y="8256"/>
                  <a:pt x="5383" y="8136"/>
                </a:cubicBezTo>
                <a:cubicBezTo>
                  <a:pt x="5375" y="8111"/>
                  <a:pt x="5366" y="8087"/>
                  <a:pt x="5358" y="8062"/>
                </a:cubicBezTo>
              </a:path>
              <a:path w="3275" h="869">
                <a:moveTo>
                  <a:pt x="5655" y="7913"/>
                </a:moveTo>
                <a:cubicBezTo>
                  <a:pt x="5779" y="7932"/>
                  <a:pt x="5867" y="7924"/>
                  <a:pt x="5953" y="7813"/>
                </a:cubicBezTo>
                <a:cubicBezTo>
                  <a:pt x="5961" y="7797"/>
                  <a:pt x="5970" y="7780"/>
                  <a:pt x="5978" y="7764"/>
                </a:cubicBezTo>
                <a:cubicBezTo>
                  <a:pt x="5892" y="7712"/>
                  <a:pt x="5834" y="7758"/>
                  <a:pt x="5804" y="7863"/>
                </a:cubicBezTo>
                <a:cubicBezTo>
                  <a:pt x="5773" y="7970"/>
                  <a:pt x="5862" y="8080"/>
                  <a:pt x="5978" y="8062"/>
                </a:cubicBezTo>
                <a:cubicBezTo>
                  <a:pt x="6044" y="8052"/>
                  <a:pt x="6219" y="7921"/>
                  <a:pt x="6226" y="7938"/>
                </a:cubicBezTo>
                <a:cubicBezTo>
                  <a:pt x="6248" y="8003"/>
                  <a:pt x="6256" y="8018"/>
                  <a:pt x="6251" y="8062"/>
                </a:cubicBezTo>
                <a:cubicBezTo>
                  <a:pt x="6251" y="7982"/>
                  <a:pt x="6228" y="7884"/>
                  <a:pt x="6276" y="7813"/>
                </a:cubicBezTo>
                <a:cubicBezTo>
                  <a:pt x="6337" y="7724"/>
                  <a:pt x="6483" y="7739"/>
                  <a:pt x="6573" y="7739"/>
                </a:cubicBezTo>
              </a:path>
              <a:path w="3275" h="869">
                <a:moveTo>
                  <a:pt x="6871" y="7938"/>
                </a:moveTo>
                <a:cubicBezTo>
                  <a:pt x="6863" y="7906"/>
                  <a:pt x="6789" y="7821"/>
                  <a:pt x="6747" y="7838"/>
                </a:cubicBezTo>
                <a:cubicBezTo>
                  <a:pt x="6621" y="7888"/>
                  <a:pt x="6547" y="7994"/>
                  <a:pt x="6573" y="8111"/>
                </a:cubicBezTo>
                <a:cubicBezTo>
                  <a:pt x="6726" y="8137"/>
                  <a:pt x="6753" y="8086"/>
                  <a:pt x="6846" y="7962"/>
                </a:cubicBezTo>
                <a:cubicBezTo>
                  <a:pt x="6858" y="8022"/>
                  <a:pt x="6878" y="8091"/>
                  <a:pt x="6945" y="8111"/>
                </a:cubicBezTo>
                <a:cubicBezTo>
                  <a:pt x="7094" y="8155"/>
                  <a:pt x="7068" y="7826"/>
                  <a:pt x="7069" y="7764"/>
                </a:cubicBezTo>
                <a:cubicBezTo>
                  <a:pt x="7069" y="7723"/>
                  <a:pt x="7069" y="7681"/>
                  <a:pt x="7069" y="7640"/>
                </a:cubicBezTo>
                <a:cubicBezTo>
                  <a:pt x="6988" y="7500"/>
                  <a:pt x="7094" y="7837"/>
                  <a:pt x="7094" y="7838"/>
                </a:cubicBezTo>
                <a:cubicBezTo>
                  <a:pt x="7117" y="7930"/>
                  <a:pt x="7123" y="7955"/>
                  <a:pt x="7144" y="8012"/>
                </a:cubicBezTo>
              </a:path>
              <a:path w="3275" h="869">
                <a:moveTo>
                  <a:pt x="6871" y="7838"/>
                </a:moveTo>
                <a:cubicBezTo>
                  <a:pt x="7014" y="7804"/>
                  <a:pt x="7190" y="7731"/>
                  <a:pt x="7317" y="7838"/>
                </a:cubicBezTo>
                <a:cubicBezTo>
                  <a:pt x="7396" y="7904"/>
                  <a:pt x="7367" y="7961"/>
                  <a:pt x="7342" y="8037"/>
                </a:cubicBezTo>
              </a:path>
              <a:path w="3275" h="869">
                <a:moveTo>
                  <a:pt x="7268" y="7590"/>
                </a:moveTo>
                <a:lnTo>
                  <a:pt x="7268" y="7590"/>
                </a:lnTo>
              </a:path>
              <a:path w="3275" h="869">
                <a:moveTo>
                  <a:pt x="7466" y="7714"/>
                </a:moveTo>
                <a:cubicBezTo>
                  <a:pt x="7436" y="7767"/>
                  <a:pt x="7320" y="7961"/>
                  <a:pt x="7466" y="7987"/>
                </a:cubicBezTo>
                <a:cubicBezTo>
                  <a:pt x="7579" y="8007"/>
                  <a:pt x="7606" y="7831"/>
                  <a:pt x="7615" y="7764"/>
                </a:cubicBezTo>
                <a:cubicBezTo>
                  <a:pt x="7615" y="7739"/>
                  <a:pt x="7615" y="7714"/>
                  <a:pt x="7615" y="7689"/>
                </a:cubicBezTo>
                <a:cubicBezTo>
                  <a:pt x="7697" y="7706"/>
                  <a:pt x="7751" y="7758"/>
                  <a:pt x="7813" y="7813"/>
                </a:cubicBezTo>
                <a:cubicBezTo>
                  <a:pt x="7822" y="7753"/>
                  <a:pt x="7834" y="7583"/>
                  <a:pt x="7938" y="7615"/>
                </a:cubicBezTo>
                <a:cubicBezTo>
                  <a:pt x="8035" y="7645"/>
                  <a:pt x="8100" y="7742"/>
                  <a:pt x="8161" y="7813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0760" y="2795760"/>
            <a:ext cx="4098960" cy="482400"/>
          </a:xfrm>
          <a:custGeom>
            <a:avLst/>
            <a:gdLst/>
            <a:ahLst/>
            <a:rect l="l" t="t" r="r" b="b"/>
            <a:pathLst>
              <a:path w="11386" h="1340">
                <a:moveTo>
                  <a:pt x="7739" y="9029"/>
                </a:moveTo>
                <a:cubicBezTo>
                  <a:pt x="7824" y="8986"/>
                  <a:pt x="7868" y="8995"/>
                  <a:pt x="7962" y="8979"/>
                </a:cubicBezTo>
                <a:cubicBezTo>
                  <a:pt x="8197" y="8940"/>
                  <a:pt x="8422" y="8933"/>
                  <a:pt x="8657" y="8880"/>
                </a:cubicBezTo>
                <a:cubicBezTo>
                  <a:pt x="8871" y="8832"/>
                  <a:pt x="9091" y="8789"/>
                  <a:pt x="9302" y="8731"/>
                </a:cubicBezTo>
                <a:cubicBezTo>
                  <a:pt x="9408" y="8702"/>
                  <a:pt x="9506" y="8637"/>
                  <a:pt x="9599" y="8582"/>
                </a:cubicBezTo>
                <a:cubicBezTo>
                  <a:pt x="9679" y="8535"/>
                  <a:pt x="9770" y="8510"/>
                  <a:pt x="9847" y="8458"/>
                </a:cubicBezTo>
                <a:cubicBezTo>
                  <a:pt x="9901" y="8421"/>
                  <a:pt x="9911" y="8391"/>
                  <a:pt x="9922" y="8334"/>
                </a:cubicBezTo>
                <a:cubicBezTo>
                  <a:pt x="9956" y="8156"/>
                  <a:pt x="9818" y="8066"/>
                  <a:pt x="9674" y="8012"/>
                </a:cubicBezTo>
                <a:cubicBezTo>
                  <a:pt x="9396" y="7908"/>
                  <a:pt x="9064" y="7953"/>
                  <a:pt x="8781" y="8012"/>
                </a:cubicBezTo>
                <a:cubicBezTo>
                  <a:pt x="8456" y="8080"/>
                  <a:pt x="8092" y="8169"/>
                  <a:pt x="7789" y="8310"/>
                </a:cubicBezTo>
                <a:cubicBezTo>
                  <a:pt x="7669" y="8366"/>
                  <a:pt x="7413" y="8523"/>
                  <a:pt x="7392" y="8682"/>
                </a:cubicBezTo>
                <a:cubicBezTo>
                  <a:pt x="7377" y="8797"/>
                  <a:pt x="7547" y="9009"/>
                  <a:pt x="7640" y="9054"/>
                </a:cubicBezTo>
                <a:cubicBezTo>
                  <a:pt x="7928" y="9193"/>
                  <a:pt x="8304" y="9018"/>
                  <a:pt x="8582" y="8930"/>
                </a:cubicBezTo>
                <a:cubicBezTo>
                  <a:pt x="8781" y="8864"/>
                  <a:pt x="8830" y="8847"/>
                  <a:pt x="8954" y="8806"/>
                </a:cubicBezTo>
              </a:path>
              <a:path w="11386" h="1340">
                <a:moveTo>
                  <a:pt x="9500" y="8409"/>
                </a:moveTo>
                <a:cubicBezTo>
                  <a:pt x="9568" y="8402"/>
                  <a:pt x="9625" y="8388"/>
                  <a:pt x="9699" y="8384"/>
                </a:cubicBezTo>
                <a:cubicBezTo>
                  <a:pt x="9903" y="8373"/>
                  <a:pt x="10070" y="8421"/>
                  <a:pt x="10269" y="8458"/>
                </a:cubicBezTo>
                <a:cubicBezTo>
                  <a:pt x="10529" y="8506"/>
                  <a:pt x="10782" y="8468"/>
                  <a:pt x="11038" y="8458"/>
                </a:cubicBezTo>
                <a:cubicBezTo>
                  <a:pt x="11174" y="8453"/>
                  <a:pt x="11305" y="8458"/>
                  <a:pt x="11435" y="8458"/>
                </a:cubicBezTo>
                <a:cubicBezTo>
                  <a:pt x="11829" y="8458"/>
                  <a:pt x="12238" y="8478"/>
                  <a:pt x="12626" y="8409"/>
                </a:cubicBezTo>
                <a:cubicBezTo>
                  <a:pt x="13030" y="8337"/>
                  <a:pt x="13432" y="8302"/>
                  <a:pt x="13841" y="8260"/>
                </a:cubicBezTo>
                <a:cubicBezTo>
                  <a:pt x="14229" y="8220"/>
                  <a:pt x="14604" y="8161"/>
                  <a:pt x="14982" y="8062"/>
                </a:cubicBezTo>
                <a:cubicBezTo>
                  <a:pt x="15213" y="8002"/>
                  <a:pt x="15441" y="7928"/>
                  <a:pt x="15677" y="7888"/>
                </a:cubicBezTo>
                <a:cubicBezTo>
                  <a:pt x="15884" y="7853"/>
                  <a:pt x="16041" y="7849"/>
                  <a:pt x="16247" y="7863"/>
                </a:cubicBezTo>
                <a:cubicBezTo>
                  <a:pt x="16394" y="7873"/>
                  <a:pt x="16548" y="7896"/>
                  <a:pt x="16694" y="7913"/>
                </a:cubicBezTo>
                <a:cubicBezTo>
                  <a:pt x="16819" y="7928"/>
                  <a:pt x="16942" y="7946"/>
                  <a:pt x="17066" y="7962"/>
                </a:cubicBezTo>
                <a:cubicBezTo>
                  <a:pt x="17216" y="7981"/>
                  <a:pt x="17360" y="8005"/>
                  <a:pt x="17512" y="8012"/>
                </a:cubicBezTo>
                <a:cubicBezTo>
                  <a:pt x="17748" y="8022"/>
                  <a:pt x="18002" y="8018"/>
                  <a:pt x="18231" y="7962"/>
                </a:cubicBezTo>
                <a:cubicBezTo>
                  <a:pt x="18287" y="7948"/>
                  <a:pt x="18274" y="7957"/>
                  <a:pt x="18331" y="7938"/>
                </a:cubicBezTo>
                <a:cubicBezTo>
                  <a:pt x="18427" y="7906"/>
                  <a:pt x="18537" y="7820"/>
                  <a:pt x="18604" y="7789"/>
                </a:cubicBezTo>
                <a:cubicBezTo>
                  <a:pt x="18612" y="7789"/>
                  <a:pt x="18620" y="7789"/>
                  <a:pt x="18628" y="7789"/>
                </a:cubicBezTo>
                <a:cubicBezTo>
                  <a:pt x="18583" y="7796"/>
                  <a:pt x="18542" y="7750"/>
                  <a:pt x="18504" y="7764"/>
                </a:cubicBezTo>
                <a:cubicBezTo>
                  <a:pt x="18422" y="7794"/>
                  <a:pt x="18376" y="7853"/>
                  <a:pt x="18306" y="7888"/>
                </a:cubicBezTo>
                <a:cubicBezTo>
                  <a:pt x="18289" y="7896"/>
                  <a:pt x="18273" y="7905"/>
                  <a:pt x="18256" y="7913"/>
                </a:cubicBezTo>
                <a:cubicBezTo>
                  <a:pt x="18318" y="7884"/>
                  <a:pt x="18405" y="7828"/>
                  <a:pt x="18479" y="7813"/>
                </a:cubicBezTo>
                <a:cubicBezTo>
                  <a:pt x="18550" y="7799"/>
                  <a:pt x="18560" y="7772"/>
                  <a:pt x="18628" y="7813"/>
                </a:cubicBezTo>
                <a:cubicBezTo>
                  <a:pt x="18703" y="7859"/>
                  <a:pt x="18733" y="7975"/>
                  <a:pt x="18777" y="803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jective:  Students will subtract integers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’s try some together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-2 – (-9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-5 -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) 3 -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) 3 – (-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2200" y="1116000"/>
            <a:ext cx="901800" cy="642960"/>
          </a:xfrm>
          <a:custGeom>
            <a:avLst/>
            <a:gdLst/>
            <a:ahLst/>
            <a:rect l="l" t="t" r="r" b="b"/>
            <a:pathLst>
              <a:path w="2506" h="1787">
                <a:moveTo>
                  <a:pt x="893" y="4093"/>
                </a:moveTo>
                <a:cubicBezTo>
                  <a:pt x="988" y="4339"/>
                  <a:pt x="1059" y="4598"/>
                  <a:pt x="1166" y="4837"/>
                </a:cubicBezTo>
                <a:cubicBezTo>
                  <a:pt x="1174" y="4854"/>
                  <a:pt x="1183" y="4870"/>
                  <a:pt x="1191" y="4887"/>
                </a:cubicBezTo>
              </a:path>
              <a:path w="2506" h="1787">
                <a:moveTo>
                  <a:pt x="1315" y="3795"/>
                </a:moveTo>
                <a:cubicBezTo>
                  <a:pt x="1275" y="3984"/>
                  <a:pt x="1251" y="4221"/>
                  <a:pt x="1166" y="4390"/>
                </a:cubicBezTo>
                <a:cubicBezTo>
                  <a:pt x="1183" y="4306"/>
                  <a:pt x="1204" y="4232"/>
                  <a:pt x="1290" y="4192"/>
                </a:cubicBezTo>
                <a:cubicBezTo>
                  <a:pt x="1476" y="4105"/>
                  <a:pt x="1586" y="4350"/>
                  <a:pt x="1612" y="4490"/>
                </a:cubicBezTo>
                <a:cubicBezTo>
                  <a:pt x="1629" y="4580"/>
                  <a:pt x="1603" y="4705"/>
                  <a:pt x="1588" y="4614"/>
                </a:cubicBezTo>
              </a:path>
              <a:path w="2506" h="1787">
                <a:moveTo>
                  <a:pt x="2232" y="3621"/>
                </a:moveTo>
                <a:cubicBezTo>
                  <a:pt x="2232" y="3532"/>
                  <a:pt x="2164" y="3485"/>
                  <a:pt x="2108" y="3423"/>
                </a:cubicBezTo>
                <a:cubicBezTo>
                  <a:pt x="1923" y="3589"/>
                  <a:pt x="1943" y="3829"/>
                  <a:pt x="1984" y="4068"/>
                </a:cubicBezTo>
                <a:cubicBezTo>
                  <a:pt x="2075" y="4596"/>
                  <a:pt x="2433" y="4027"/>
                  <a:pt x="2530" y="3870"/>
                </a:cubicBezTo>
              </a:path>
              <a:path w="2506" h="1787">
                <a:moveTo>
                  <a:pt x="3001" y="3249"/>
                </a:moveTo>
                <a:cubicBezTo>
                  <a:pt x="3018" y="3299"/>
                  <a:pt x="3039" y="3254"/>
                  <a:pt x="2952" y="3150"/>
                </a:cubicBezTo>
                <a:cubicBezTo>
                  <a:pt x="2907" y="3106"/>
                  <a:pt x="2897" y="3090"/>
                  <a:pt x="2853" y="3101"/>
                </a:cubicBezTo>
                <a:cubicBezTo>
                  <a:pt x="2818" y="3251"/>
                  <a:pt x="2648" y="3745"/>
                  <a:pt x="2853" y="3845"/>
                </a:cubicBezTo>
                <a:cubicBezTo>
                  <a:pt x="3046" y="3939"/>
                  <a:pt x="3302" y="3569"/>
                  <a:pt x="3398" y="3473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85920" y="2419200"/>
            <a:ext cx="258840" cy="216000"/>
          </a:xfrm>
          <a:custGeom>
            <a:avLst/>
            <a:gdLst/>
            <a:ahLst/>
            <a:rect l="l" t="t" r="r" b="b"/>
            <a:pathLst>
              <a:path w="720" h="596">
                <a:moveTo>
                  <a:pt x="3671" y="6921"/>
                </a:moveTo>
                <a:cubicBezTo>
                  <a:pt x="3630" y="6907"/>
                  <a:pt x="3654" y="6859"/>
                  <a:pt x="3646" y="6896"/>
                </a:cubicBezTo>
                <a:cubicBezTo>
                  <a:pt x="3617" y="7022"/>
                  <a:pt x="3637" y="7173"/>
                  <a:pt x="3597" y="7293"/>
                </a:cubicBezTo>
                <a:cubicBezTo>
                  <a:pt x="3589" y="7301"/>
                  <a:pt x="3580" y="7309"/>
                  <a:pt x="3572" y="7317"/>
                </a:cubicBezTo>
              </a:path>
              <a:path w="720" h="596">
                <a:moveTo>
                  <a:pt x="3746" y="7045"/>
                </a:moveTo>
                <a:cubicBezTo>
                  <a:pt x="3759" y="6952"/>
                  <a:pt x="3759" y="6962"/>
                  <a:pt x="3845" y="6921"/>
                </a:cubicBezTo>
                <a:cubicBezTo>
                  <a:pt x="3861" y="6913"/>
                  <a:pt x="3878" y="6904"/>
                  <a:pt x="3894" y="6896"/>
                </a:cubicBezTo>
                <a:cubicBezTo>
                  <a:pt x="3928" y="6985"/>
                  <a:pt x="3912" y="7009"/>
                  <a:pt x="3870" y="7094"/>
                </a:cubicBezTo>
                <a:cubicBezTo>
                  <a:pt x="3848" y="7138"/>
                  <a:pt x="3845" y="7150"/>
                  <a:pt x="3820" y="7169"/>
                </a:cubicBezTo>
                <a:cubicBezTo>
                  <a:pt x="3907" y="7130"/>
                  <a:pt x="4000" y="7091"/>
                  <a:pt x="4093" y="7069"/>
                </a:cubicBezTo>
                <a:cubicBezTo>
                  <a:pt x="4101" y="7069"/>
                  <a:pt x="4110" y="7069"/>
                  <a:pt x="4118" y="7069"/>
                </a:cubicBezTo>
              </a:path>
              <a:path w="720" h="596">
                <a:moveTo>
                  <a:pt x="4242" y="6722"/>
                </a:moveTo>
                <a:cubicBezTo>
                  <a:pt x="4293" y="6866"/>
                  <a:pt x="4291" y="6992"/>
                  <a:pt x="4291" y="7144"/>
                </a:cubicBezTo>
                <a:cubicBezTo>
                  <a:pt x="4291" y="7185"/>
                  <a:pt x="4291" y="7227"/>
                  <a:pt x="4291" y="7268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00160" y="2384280"/>
            <a:ext cx="1884600" cy="1071720"/>
          </a:xfrm>
          <a:custGeom>
            <a:avLst/>
            <a:gdLst/>
            <a:ahLst/>
            <a:rect l="l" t="t" r="r" b="b"/>
            <a:pathLst>
              <a:path w="5235" h="2977">
                <a:moveTo>
                  <a:pt x="5556" y="6796"/>
                </a:moveTo>
                <a:cubicBezTo>
                  <a:pt x="5576" y="6915"/>
                  <a:pt x="5602" y="7020"/>
                  <a:pt x="5606" y="7144"/>
                </a:cubicBezTo>
                <a:cubicBezTo>
                  <a:pt x="5608" y="7213"/>
                  <a:pt x="5586" y="7228"/>
                  <a:pt x="5631" y="7243"/>
                </a:cubicBezTo>
              </a:path>
              <a:path w="5235" h="2977">
                <a:moveTo>
                  <a:pt x="6152" y="6796"/>
                </a:moveTo>
                <a:cubicBezTo>
                  <a:pt x="6123" y="6741"/>
                  <a:pt x="6015" y="6709"/>
                  <a:pt x="5953" y="6672"/>
                </a:cubicBezTo>
                <a:cubicBezTo>
                  <a:pt x="5863" y="6751"/>
                  <a:pt x="5854" y="6801"/>
                  <a:pt x="5854" y="6921"/>
                </a:cubicBezTo>
                <a:cubicBezTo>
                  <a:pt x="5941" y="6921"/>
                  <a:pt x="5951" y="6859"/>
                  <a:pt x="6003" y="6796"/>
                </a:cubicBezTo>
                <a:cubicBezTo>
                  <a:pt x="6011" y="6788"/>
                  <a:pt x="6020" y="6780"/>
                  <a:pt x="6028" y="6772"/>
                </a:cubicBezTo>
                <a:cubicBezTo>
                  <a:pt x="6043" y="6865"/>
                  <a:pt x="6073" y="6949"/>
                  <a:pt x="6077" y="7045"/>
                </a:cubicBezTo>
                <a:cubicBezTo>
                  <a:pt x="6077" y="7061"/>
                  <a:pt x="6077" y="7078"/>
                  <a:pt x="6077" y="7094"/>
                </a:cubicBezTo>
              </a:path>
              <a:path w="5235" h="2977">
                <a:moveTo>
                  <a:pt x="6300" y="6623"/>
                </a:moveTo>
                <a:cubicBezTo>
                  <a:pt x="6327" y="6757"/>
                  <a:pt x="6383" y="6900"/>
                  <a:pt x="6375" y="7045"/>
                </a:cubicBezTo>
                <a:cubicBezTo>
                  <a:pt x="6353" y="7110"/>
                  <a:pt x="6345" y="7125"/>
                  <a:pt x="6350" y="7169"/>
                </a:cubicBezTo>
              </a:path>
              <a:path w="5235" h="2977">
                <a:moveTo>
                  <a:pt x="9079" y="6921"/>
                </a:moveTo>
                <a:cubicBezTo>
                  <a:pt x="9037" y="6916"/>
                  <a:pt x="9016" y="6909"/>
                  <a:pt x="8979" y="6896"/>
                </a:cubicBezTo>
                <a:cubicBezTo>
                  <a:pt x="8938" y="6882"/>
                  <a:pt x="8881" y="6831"/>
                  <a:pt x="8830" y="6846"/>
                </a:cubicBezTo>
                <a:cubicBezTo>
                  <a:pt x="8790" y="6858"/>
                  <a:pt x="8767" y="6851"/>
                  <a:pt x="8731" y="6871"/>
                </a:cubicBezTo>
                <a:cubicBezTo>
                  <a:pt x="8668" y="6906"/>
                  <a:pt x="8627" y="6937"/>
                  <a:pt x="8558" y="6970"/>
                </a:cubicBezTo>
                <a:cubicBezTo>
                  <a:pt x="8519" y="6989"/>
                  <a:pt x="8478" y="6998"/>
                  <a:pt x="8434" y="7020"/>
                </a:cubicBezTo>
                <a:cubicBezTo>
                  <a:pt x="8373" y="7051"/>
                  <a:pt x="8313" y="7076"/>
                  <a:pt x="8260" y="7119"/>
                </a:cubicBezTo>
                <a:cubicBezTo>
                  <a:pt x="8213" y="7157"/>
                  <a:pt x="8197" y="7177"/>
                  <a:pt x="8161" y="7218"/>
                </a:cubicBezTo>
                <a:cubicBezTo>
                  <a:pt x="8121" y="7263"/>
                  <a:pt x="8085" y="7270"/>
                  <a:pt x="8037" y="7293"/>
                </a:cubicBezTo>
                <a:cubicBezTo>
                  <a:pt x="7962" y="7328"/>
                  <a:pt x="7940" y="7404"/>
                  <a:pt x="7888" y="7466"/>
                </a:cubicBezTo>
                <a:cubicBezTo>
                  <a:pt x="7849" y="7512"/>
                  <a:pt x="7816" y="7560"/>
                  <a:pt x="7789" y="7615"/>
                </a:cubicBezTo>
                <a:cubicBezTo>
                  <a:pt x="7749" y="7698"/>
                  <a:pt x="7712" y="7705"/>
                  <a:pt x="7665" y="7764"/>
                </a:cubicBezTo>
                <a:cubicBezTo>
                  <a:pt x="7636" y="7801"/>
                  <a:pt x="7592" y="7852"/>
                  <a:pt x="7541" y="7863"/>
                </a:cubicBezTo>
                <a:cubicBezTo>
                  <a:pt x="7512" y="7870"/>
                  <a:pt x="7462" y="7884"/>
                  <a:pt x="7441" y="7888"/>
                </a:cubicBezTo>
                <a:cubicBezTo>
                  <a:pt x="7354" y="7903"/>
                  <a:pt x="7242" y="7871"/>
                  <a:pt x="7193" y="7863"/>
                </a:cubicBezTo>
                <a:cubicBezTo>
                  <a:pt x="7152" y="7856"/>
                  <a:pt x="7131" y="7847"/>
                  <a:pt x="7094" y="7838"/>
                </a:cubicBezTo>
                <a:cubicBezTo>
                  <a:pt x="7086" y="7838"/>
                  <a:pt x="7077" y="7838"/>
                  <a:pt x="7069" y="7838"/>
                </a:cubicBezTo>
                <a:cubicBezTo>
                  <a:pt x="7118" y="7915"/>
                  <a:pt x="7160" y="7980"/>
                  <a:pt x="7243" y="8037"/>
                </a:cubicBezTo>
                <a:cubicBezTo>
                  <a:pt x="7281" y="8063"/>
                  <a:pt x="7290" y="8068"/>
                  <a:pt x="7317" y="8086"/>
                </a:cubicBezTo>
                <a:cubicBezTo>
                  <a:pt x="7285" y="8027"/>
                  <a:pt x="7245" y="7968"/>
                  <a:pt x="7193" y="7913"/>
                </a:cubicBezTo>
                <a:cubicBezTo>
                  <a:pt x="7168" y="7886"/>
                  <a:pt x="7060" y="7807"/>
                  <a:pt x="7069" y="7764"/>
                </a:cubicBezTo>
                <a:cubicBezTo>
                  <a:pt x="7087" y="7680"/>
                  <a:pt x="7199" y="7614"/>
                  <a:pt x="7268" y="7565"/>
                </a:cubicBezTo>
                <a:cubicBezTo>
                  <a:pt x="7314" y="7533"/>
                  <a:pt x="7352" y="7513"/>
                  <a:pt x="7392" y="7491"/>
                </a:cubicBezTo>
              </a:path>
              <a:path w="5235" h="2977">
                <a:moveTo>
                  <a:pt x="10071" y="8235"/>
                </a:moveTo>
                <a:cubicBezTo>
                  <a:pt x="9984" y="8216"/>
                  <a:pt x="9887" y="8174"/>
                  <a:pt x="9798" y="8161"/>
                </a:cubicBezTo>
                <a:cubicBezTo>
                  <a:pt x="9695" y="8146"/>
                  <a:pt x="9581" y="8121"/>
                  <a:pt x="9475" y="8136"/>
                </a:cubicBezTo>
                <a:cubicBezTo>
                  <a:pt x="9294" y="8162"/>
                  <a:pt x="9152" y="8233"/>
                  <a:pt x="9004" y="8334"/>
                </a:cubicBezTo>
                <a:cubicBezTo>
                  <a:pt x="8887" y="8413"/>
                  <a:pt x="8820" y="8474"/>
                  <a:pt x="8781" y="8607"/>
                </a:cubicBezTo>
                <a:cubicBezTo>
                  <a:pt x="8738" y="8751"/>
                  <a:pt x="8772" y="8920"/>
                  <a:pt x="8830" y="9054"/>
                </a:cubicBezTo>
                <a:cubicBezTo>
                  <a:pt x="8890" y="9194"/>
                  <a:pt x="8987" y="9262"/>
                  <a:pt x="9079" y="9376"/>
                </a:cubicBezTo>
                <a:cubicBezTo>
                  <a:pt x="9152" y="9466"/>
                  <a:pt x="9281" y="9567"/>
                  <a:pt x="9401" y="9599"/>
                </a:cubicBezTo>
                <a:cubicBezTo>
                  <a:pt x="9537" y="9635"/>
                  <a:pt x="9713" y="9584"/>
                  <a:pt x="9847" y="9575"/>
                </a:cubicBezTo>
                <a:cubicBezTo>
                  <a:pt x="9968" y="9567"/>
                  <a:pt x="10130" y="9562"/>
                  <a:pt x="10244" y="9525"/>
                </a:cubicBezTo>
                <a:cubicBezTo>
                  <a:pt x="10336" y="9495"/>
                  <a:pt x="10466" y="9440"/>
                  <a:pt x="10542" y="9376"/>
                </a:cubicBezTo>
                <a:cubicBezTo>
                  <a:pt x="10678" y="9260"/>
                  <a:pt x="10720" y="9205"/>
                  <a:pt x="10765" y="9029"/>
                </a:cubicBezTo>
                <a:cubicBezTo>
                  <a:pt x="10796" y="8910"/>
                  <a:pt x="10773" y="8771"/>
                  <a:pt x="10716" y="8657"/>
                </a:cubicBezTo>
                <a:cubicBezTo>
                  <a:pt x="10662" y="8550"/>
                  <a:pt x="10588" y="8476"/>
                  <a:pt x="10492" y="8409"/>
                </a:cubicBezTo>
                <a:cubicBezTo>
                  <a:pt x="10425" y="8362"/>
                  <a:pt x="10300" y="8277"/>
                  <a:pt x="10220" y="8260"/>
                </a:cubicBezTo>
                <a:cubicBezTo>
                  <a:pt x="10164" y="8248"/>
                  <a:pt x="10100" y="8252"/>
                  <a:pt x="10046" y="8235"/>
                </a:cubicBezTo>
                <a:cubicBezTo>
                  <a:pt x="9980" y="8214"/>
                  <a:pt x="9920" y="8199"/>
                  <a:pt x="9847" y="8210"/>
                </a:cubicBezTo>
                <a:cubicBezTo>
                  <a:pt x="9816" y="8215"/>
                  <a:pt x="9801" y="8234"/>
                  <a:pt x="9798" y="8235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02000" y="2320920"/>
            <a:ext cx="277920" cy="1081080"/>
          </a:xfrm>
          <a:custGeom>
            <a:avLst/>
            <a:gdLst/>
            <a:ahLst/>
            <a:rect l="l" t="t" r="r" b="b"/>
            <a:pathLst>
              <a:path w="770" h="3003">
                <a:moveTo>
                  <a:pt x="9748" y="6672"/>
                </a:moveTo>
                <a:cubicBezTo>
                  <a:pt x="9818" y="6655"/>
                  <a:pt x="9807" y="6608"/>
                  <a:pt x="9773" y="6548"/>
                </a:cubicBezTo>
                <a:cubicBezTo>
                  <a:pt x="9724" y="6462"/>
                  <a:pt x="9710" y="6460"/>
                  <a:pt x="9624" y="6449"/>
                </a:cubicBezTo>
                <a:cubicBezTo>
                  <a:pt x="9559" y="6600"/>
                  <a:pt x="9540" y="6684"/>
                  <a:pt x="9575" y="6846"/>
                </a:cubicBezTo>
                <a:cubicBezTo>
                  <a:pt x="9722" y="6764"/>
                  <a:pt x="9726" y="6707"/>
                  <a:pt x="9773" y="6548"/>
                </a:cubicBezTo>
                <a:cubicBezTo>
                  <a:pt x="9781" y="6523"/>
                  <a:pt x="9790" y="6499"/>
                  <a:pt x="9798" y="6474"/>
                </a:cubicBezTo>
                <a:cubicBezTo>
                  <a:pt x="9812" y="6628"/>
                  <a:pt x="9826" y="6792"/>
                  <a:pt x="9847" y="6945"/>
                </a:cubicBezTo>
                <a:cubicBezTo>
                  <a:pt x="9872" y="7044"/>
                  <a:pt x="9880" y="7076"/>
                  <a:pt x="9872" y="7144"/>
                </a:cubicBezTo>
              </a:path>
              <a:path w="770" h="3003">
                <a:moveTo>
                  <a:pt x="9723" y="7293"/>
                </a:moveTo>
                <a:cubicBezTo>
                  <a:pt x="9858" y="7212"/>
                  <a:pt x="9938" y="7162"/>
                  <a:pt x="10096" y="7144"/>
                </a:cubicBezTo>
                <a:cubicBezTo>
                  <a:pt x="10073" y="7306"/>
                  <a:pt x="9994" y="7368"/>
                  <a:pt x="9897" y="7491"/>
                </a:cubicBezTo>
                <a:cubicBezTo>
                  <a:pt x="9859" y="7547"/>
                  <a:pt x="9842" y="7550"/>
                  <a:pt x="9847" y="7590"/>
                </a:cubicBezTo>
                <a:cubicBezTo>
                  <a:pt x="9953" y="7555"/>
                  <a:pt x="10040" y="7456"/>
                  <a:pt x="10145" y="7417"/>
                </a:cubicBezTo>
                <a:cubicBezTo>
                  <a:pt x="10187" y="7417"/>
                  <a:pt x="10195" y="7417"/>
                  <a:pt x="10220" y="7417"/>
                </a:cubicBezTo>
              </a:path>
              <a:path w="770" h="3003">
                <a:moveTo>
                  <a:pt x="9550" y="7962"/>
                </a:moveTo>
                <a:cubicBezTo>
                  <a:pt x="9743" y="7907"/>
                  <a:pt x="9928" y="7831"/>
                  <a:pt x="10120" y="7764"/>
                </a:cubicBezTo>
                <a:cubicBezTo>
                  <a:pt x="10178" y="7745"/>
                  <a:pt x="10185" y="7736"/>
                  <a:pt x="10220" y="7739"/>
                </a:cubicBezTo>
              </a:path>
              <a:path w="770" h="3003">
                <a:moveTo>
                  <a:pt x="9451" y="8483"/>
                </a:moveTo>
                <a:cubicBezTo>
                  <a:pt x="9567" y="8472"/>
                  <a:pt x="9681" y="8442"/>
                  <a:pt x="9798" y="8434"/>
                </a:cubicBezTo>
                <a:cubicBezTo>
                  <a:pt x="9913" y="8426"/>
                  <a:pt x="10012" y="8427"/>
                  <a:pt x="10120" y="8409"/>
                </a:cubicBezTo>
                <a:cubicBezTo>
                  <a:pt x="10128" y="8409"/>
                  <a:pt x="10137" y="8409"/>
                  <a:pt x="10145" y="8409"/>
                </a:cubicBezTo>
                <a:cubicBezTo>
                  <a:pt x="10094" y="8542"/>
                  <a:pt x="10037" y="8693"/>
                  <a:pt x="9971" y="8830"/>
                </a:cubicBezTo>
                <a:cubicBezTo>
                  <a:pt x="9877" y="9025"/>
                  <a:pt x="9770" y="9210"/>
                  <a:pt x="9748" y="9426"/>
                </a:cubicBezTo>
                <a:cubicBezTo>
                  <a:pt x="9748" y="9434"/>
                  <a:pt x="9748" y="9443"/>
                  <a:pt x="9748" y="945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03200" y="2652840"/>
            <a:ext cx="679680" cy="303120"/>
          </a:xfrm>
          <a:custGeom>
            <a:avLst/>
            <a:gdLst/>
            <a:ahLst/>
            <a:rect l="l" t="t" r="r" b="b"/>
            <a:pathLst>
              <a:path w="1887" h="844">
                <a:moveTo>
                  <a:pt x="3621" y="7888"/>
                </a:moveTo>
                <a:cubicBezTo>
                  <a:pt x="3682" y="7853"/>
                  <a:pt x="3819" y="7807"/>
                  <a:pt x="3845" y="7813"/>
                </a:cubicBezTo>
              </a:path>
              <a:path w="1887" h="844">
                <a:moveTo>
                  <a:pt x="4118" y="7466"/>
                </a:moveTo>
                <a:cubicBezTo>
                  <a:pt x="4118" y="7372"/>
                  <a:pt x="4184" y="7359"/>
                  <a:pt x="4266" y="7392"/>
                </a:cubicBezTo>
                <a:cubicBezTo>
                  <a:pt x="4486" y="7481"/>
                  <a:pt x="4362" y="7793"/>
                  <a:pt x="4291" y="7938"/>
                </a:cubicBezTo>
                <a:cubicBezTo>
                  <a:pt x="4228" y="8065"/>
                  <a:pt x="4125" y="8166"/>
                  <a:pt x="3994" y="8210"/>
                </a:cubicBezTo>
                <a:cubicBezTo>
                  <a:pt x="3960" y="8110"/>
                  <a:pt x="3954" y="8001"/>
                  <a:pt x="4068" y="7938"/>
                </a:cubicBezTo>
                <a:cubicBezTo>
                  <a:pt x="4198" y="7866"/>
                  <a:pt x="4411" y="7855"/>
                  <a:pt x="4514" y="7987"/>
                </a:cubicBezTo>
                <a:cubicBezTo>
                  <a:pt x="4544" y="8025"/>
                  <a:pt x="4556" y="8115"/>
                  <a:pt x="4564" y="8161"/>
                </a:cubicBezTo>
              </a:path>
              <a:path w="1887" h="844">
                <a:moveTo>
                  <a:pt x="5159" y="7466"/>
                </a:moveTo>
                <a:cubicBezTo>
                  <a:pt x="5202" y="7480"/>
                  <a:pt x="5207" y="7726"/>
                  <a:pt x="5209" y="7764"/>
                </a:cubicBezTo>
                <a:cubicBezTo>
                  <a:pt x="5214" y="7862"/>
                  <a:pt x="5209" y="7963"/>
                  <a:pt x="5209" y="8062"/>
                </a:cubicBezTo>
              </a:path>
              <a:path w="1887" h="844">
                <a:moveTo>
                  <a:pt x="4887" y="7789"/>
                </a:moveTo>
                <a:cubicBezTo>
                  <a:pt x="4996" y="7767"/>
                  <a:pt x="5118" y="7746"/>
                  <a:pt x="5234" y="7739"/>
                </a:cubicBezTo>
                <a:cubicBezTo>
                  <a:pt x="5328" y="7734"/>
                  <a:pt x="5416" y="7714"/>
                  <a:pt x="5507" y="7714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2633760"/>
            <a:ext cx="233280" cy="304560"/>
          </a:xfrm>
          <a:custGeom>
            <a:avLst/>
            <a:gdLst/>
            <a:ahLst/>
            <a:rect l="l" t="t" r="r" b="b"/>
            <a:pathLst>
              <a:path w="646" h="845">
                <a:moveTo>
                  <a:pt x="6548" y="7590"/>
                </a:moveTo>
                <a:cubicBezTo>
                  <a:pt x="6604" y="7571"/>
                  <a:pt x="6557" y="7542"/>
                  <a:pt x="6548" y="7491"/>
                </a:cubicBezTo>
                <a:cubicBezTo>
                  <a:pt x="6532" y="7398"/>
                  <a:pt x="6452" y="7333"/>
                  <a:pt x="6350" y="7317"/>
                </a:cubicBezTo>
                <a:cubicBezTo>
                  <a:pt x="6208" y="7295"/>
                  <a:pt x="6025" y="7318"/>
                  <a:pt x="5953" y="7466"/>
                </a:cubicBezTo>
                <a:cubicBezTo>
                  <a:pt x="5898" y="7578"/>
                  <a:pt x="5885" y="7811"/>
                  <a:pt x="6028" y="7863"/>
                </a:cubicBezTo>
                <a:cubicBezTo>
                  <a:pt x="6167" y="7913"/>
                  <a:pt x="6298" y="7710"/>
                  <a:pt x="6350" y="7615"/>
                </a:cubicBezTo>
                <a:cubicBezTo>
                  <a:pt x="6378" y="7564"/>
                  <a:pt x="6400" y="7499"/>
                  <a:pt x="6400" y="7441"/>
                </a:cubicBezTo>
                <a:cubicBezTo>
                  <a:pt x="6420" y="7606"/>
                  <a:pt x="6461" y="7772"/>
                  <a:pt x="6474" y="7938"/>
                </a:cubicBezTo>
                <a:cubicBezTo>
                  <a:pt x="6480" y="8020"/>
                  <a:pt x="6452" y="8098"/>
                  <a:pt x="6499" y="816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78080" y="2643120"/>
            <a:ext cx="108000" cy="19080"/>
          </a:xfrm>
          <a:custGeom>
            <a:avLst/>
            <a:gdLst/>
            <a:ahLst/>
            <a:rect l="l" t="t" r="r" b="b"/>
            <a:pathLst>
              <a:path w="299" h="51">
                <a:moveTo>
                  <a:pt x="8830" y="7367"/>
                </a:moveTo>
                <a:cubicBezTo>
                  <a:pt x="8830" y="7388"/>
                  <a:pt x="8846" y="7379"/>
                  <a:pt x="8905" y="7367"/>
                </a:cubicBezTo>
                <a:cubicBezTo>
                  <a:pt x="8987" y="7350"/>
                  <a:pt x="9046" y="7342"/>
                  <a:pt x="9128" y="7342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13280" y="2616120"/>
            <a:ext cx="1187640" cy="349200"/>
          </a:xfrm>
          <a:custGeom>
            <a:avLst/>
            <a:gdLst/>
            <a:ahLst/>
            <a:rect l="l" t="t" r="r" b="b"/>
            <a:pathLst>
              <a:path w="3300" h="968">
                <a:moveTo>
                  <a:pt x="16148" y="7565"/>
                </a:moveTo>
                <a:cubicBezTo>
                  <a:pt x="16248" y="7585"/>
                  <a:pt x="16288" y="7558"/>
                  <a:pt x="16396" y="7541"/>
                </a:cubicBezTo>
                <a:cubicBezTo>
                  <a:pt x="16437" y="7541"/>
                  <a:pt x="16454" y="7532"/>
                  <a:pt x="16446" y="7565"/>
                </a:cubicBezTo>
              </a:path>
              <a:path w="3300" h="968">
                <a:moveTo>
                  <a:pt x="17016" y="7268"/>
                </a:moveTo>
                <a:cubicBezTo>
                  <a:pt x="16928" y="7283"/>
                  <a:pt x="16807" y="7324"/>
                  <a:pt x="16718" y="7317"/>
                </a:cubicBezTo>
                <a:cubicBezTo>
                  <a:pt x="16593" y="7308"/>
                  <a:pt x="16616" y="7421"/>
                  <a:pt x="16594" y="7541"/>
                </a:cubicBezTo>
                <a:cubicBezTo>
                  <a:pt x="16581" y="7611"/>
                  <a:pt x="16570" y="7648"/>
                  <a:pt x="16570" y="7714"/>
                </a:cubicBezTo>
                <a:cubicBezTo>
                  <a:pt x="16636" y="7714"/>
                  <a:pt x="16677" y="7675"/>
                  <a:pt x="16743" y="7665"/>
                </a:cubicBezTo>
                <a:cubicBezTo>
                  <a:pt x="16811" y="7655"/>
                  <a:pt x="17017" y="7640"/>
                  <a:pt x="17041" y="7739"/>
                </a:cubicBezTo>
                <a:cubicBezTo>
                  <a:pt x="17091" y="7945"/>
                  <a:pt x="16933" y="8109"/>
                  <a:pt x="16768" y="8186"/>
                </a:cubicBezTo>
                <a:cubicBezTo>
                  <a:pt x="16635" y="8248"/>
                  <a:pt x="16570" y="8235"/>
                  <a:pt x="16446" y="8210"/>
                </a:cubicBezTo>
              </a:path>
              <a:path w="3300" h="968">
                <a:moveTo>
                  <a:pt x="17438" y="7541"/>
                </a:moveTo>
                <a:cubicBezTo>
                  <a:pt x="17474" y="7513"/>
                  <a:pt x="17517" y="7475"/>
                  <a:pt x="17562" y="7466"/>
                </a:cubicBezTo>
                <a:cubicBezTo>
                  <a:pt x="17587" y="7466"/>
                  <a:pt x="17595" y="7466"/>
                  <a:pt x="17611" y="7466"/>
                </a:cubicBezTo>
                <a:cubicBezTo>
                  <a:pt x="17628" y="7587"/>
                  <a:pt x="17658" y="7689"/>
                  <a:pt x="17661" y="7813"/>
                </a:cubicBezTo>
                <a:cubicBezTo>
                  <a:pt x="17662" y="7871"/>
                  <a:pt x="17661" y="7929"/>
                  <a:pt x="17661" y="7987"/>
                </a:cubicBezTo>
              </a:path>
              <a:path w="3300" h="968">
                <a:moveTo>
                  <a:pt x="17338" y="7838"/>
                </a:moveTo>
                <a:cubicBezTo>
                  <a:pt x="17356" y="7785"/>
                  <a:pt x="17509" y="7813"/>
                  <a:pt x="17562" y="7813"/>
                </a:cubicBezTo>
                <a:cubicBezTo>
                  <a:pt x="17653" y="7813"/>
                  <a:pt x="17744" y="7813"/>
                  <a:pt x="17835" y="7813"/>
                </a:cubicBezTo>
              </a:path>
              <a:path w="3300" h="968">
                <a:moveTo>
                  <a:pt x="17785" y="7863"/>
                </a:moveTo>
                <a:cubicBezTo>
                  <a:pt x="17785" y="7855"/>
                  <a:pt x="17785" y="7846"/>
                  <a:pt x="17785" y="7838"/>
                </a:cubicBezTo>
                <a:cubicBezTo>
                  <a:pt x="17842" y="7838"/>
                  <a:pt x="17881" y="7822"/>
                  <a:pt x="17934" y="7813"/>
                </a:cubicBezTo>
                <a:cubicBezTo>
                  <a:pt x="17975" y="7813"/>
                  <a:pt x="17983" y="7813"/>
                  <a:pt x="18008" y="7813"/>
                </a:cubicBezTo>
              </a:path>
              <a:path w="3300" h="968">
                <a:moveTo>
                  <a:pt x="17661" y="7913"/>
                </a:moveTo>
                <a:cubicBezTo>
                  <a:pt x="17661" y="7888"/>
                  <a:pt x="17661" y="7880"/>
                  <a:pt x="17661" y="7863"/>
                </a:cubicBezTo>
                <a:cubicBezTo>
                  <a:pt x="17687" y="7959"/>
                  <a:pt x="17711" y="8037"/>
                  <a:pt x="17711" y="8136"/>
                </a:cubicBezTo>
              </a:path>
              <a:path w="3300" h="968">
                <a:moveTo>
                  <a:pt x="18455" y="7516"/>
                </a:moveTo>
                <a:cubicBezTo>
                  <a:pt x="18505" y="7503"/>
                  <a:pt x="18556" y="7459"/>
                  <a:pt x="18604" y="7441"/>
                </a:cubicBezTo>
                <a:cubicBezTo>
                  <a:pt x="18628" y="7441"/>
                  <a:pt x="18637" y="7441"/>
                  <a:pt x="18653" y="7441"/>
                </a:cubicBezTo>
              </a:path>
              <a:path w="3300" h="968">
                <a:moveTo>
                  <a:pt x="18827" y="7367"/>
                </a:moveTo>
                <a:cubicBezTo>
                  <a:pt x="18898" y="7296"/>
                  <a:pt x="18948" y="7295"/>
                  <a:pt x="19050" y="7293"/>
                </a:cubicBezTo>
                <a:cubicBezTo>
                  <a:pt x="19181" y="7290"/>
                  <a:pt x="19296" y="7296"/>
                  <a:pt x="19422" y="7317"/>
                </a:cubicBezTo>
                <a:cubicBezTo>
                  <a:pt x="19430" y="7317"/>
                  <a:pt x="19439" y="7317"/>
                  <a:pt x="19447" y="7317"/>
                </a:cubicBezTo>
                <a:cubicBezTo>
                  <a:pt x="19372" y="7482"/>
                  <a:pt x="19297" y="7648"/>
                  <a:pt x="19224" y="7813"/>
                </a:cubicBezTo>
                <a:cubicBezTo>
                  <a:pt x="19198" y="7873"/>
                  <a:pt x="19162" y="7947"/>
                  <a:pt x="19149" y="8012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69120" y="2768760"/>
            <a:ext cx="125280" cy="88920"/>
          </a:xfrm>
          <a:custGeom>
            <a:avLst/>
            <a:gdLst/>
            <a:ahLst/>
            <a:rect l="l" t="t" r="r" b="b"/>
            <a:pathLst>
              <a:path w="348" h="250">
                <a:moveTo>
                  <a:pt x="20191" y="7739"/>
                </a:moveTo>
                <a:cubicBezTo>
                  <a:pt x="20275" y="7739"/>
                  <a:pt x="20334" y="7704"/>
                  <a:pt x="20414" y="7689"/>
                </a:cubicBezTo>
                <a:cubicBezTo>
                  <a:pt x="20443" y="7684"/>
                  <a:pt x="20483" y="7689"/>
                  <a:pt x="20513" y="7689"/>
                </a:cubicBezTo>
              </a:path>
              <a:path w="348" h="250">
                <a:moveTo>
                  <a:pt x="20241" y="7938"/>
                </a:moveTo>
                <a:cubicBezTo>
                  <a:pt x="20320" y="7927"/>
                  <a:pt x="20408" y="7895"/>
                  <a:pt x="20489" y="7863"/>
                </a:cubicBezTo>
                <a:cubicBezTo>
                  <a:pt x="20505" y="7855"/>
                  <a:pt x="20522" y="7846"/>
                  <a:pt x="20538" y="7838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53240" y="2286000"/>
            <a:ext cx="500040" cy="777960"/>
          </a:xfrm>
          <a:custGeom>
            <a:avLst/>
            <a:gdLst/>
            <a:ahLst/>
            <a:rect l="l" t="t" r="r" b="b"/>
            <a:pathLst>
              <a:path w="1390" h="2159">
                <a:moveTo>
                  <a:pt x="21630" y="6449"/>
                </a:moveTo>
                <a:cubicBezTo>
                  <a:pt x="21740" y="6449"/>
                  <a:pt x="21799" y="6432"/>
                  <a:pt x="21903" y="6400"/>
                </a:cubicBezTo>
                <a:cubicBezTo>
                  <a:pt x="21987" y="6379"/>
                  <a:pt x="22006" y="6378"/>
                  <a:pt x="22051" y="6350"/>
                </a:cubicBezTo>
                <a:cubicBezTo>
                  <a:pt x="22051" y="6445"/>
                  <a:pt x="22033" y="6559"/>
                  <a:pt x="22002" y="6648"/>
                </a:cubicBezTo>
                <a:cubicBezTo>
                  <a:pt x="21958" y="6736"/>
                  <a:pt x="21941" y="6757"/>
                  <a:pt x="21952" y="6821"/>
                </a:cubicBezTo>
              </a:path>
              <a:path w="1390" h="2159">
                <a:moveTo>
                  <a:pt x="21406" y="7119"/>
                </a:moveTo>
                <a:cubicBezTo>
                  <a:pt x="21436" y="7172"/>
                  <a:pt x="21512" y="7329"/>
                  <a:pt x="21506" y="7392"/>
                </a:cubicBezTo>
                <a:cubicBezTo>
                  <a:pt x="21498" y="7392"/>
                  <a:pt x="21489" y="7392"/>
                  <a:pt x="21481" y="7392"/>
                </a:cubicBezTo>
              </a:path>
              <a:path w="1390" h="2159">
                <a:moveTo>
                  <a:pt x="21258" y="7392"/>
                </a:moveTo>
                <a:cubicBezTo>
                  <a:pt x="21395" y="7341"/>
                  <a:pt x="21523" y="7282"/>
                  <a:pt x="21654" y="7218"/>
                </a:cubicBezTo>
              </a:path>
              <a:path w="1390" h="2159">
                <a:moveTo>
                  <a:pt x="22027" y="7094"/>
                </a:moveTo>
                <a:cubicBezTo>
                  <a:pt x="22012" y="7125"/>
                  <a:pt x="21992" y="7138"/>
                  <a:pt x="21977" y="7169"/>
                </a:cubicBezTo>
                <a:cubicBezTo>
                  <a:pt x="22059" y="7194"/>
                  <a:pt x="22144" y="7227"/>
                  <a:pt x="22225" y="7243"/>
                </a:cubicBezTo>
                <a:cubicBezTo>
                  <a:pt x="22152" y="7357"/>
                  <a:pt x="22141" y="7349"/>
                  <a:pt x="22002" y="7367"/>
                </a:cubicBezTo>
              </a:path>
              <a:path w="1390" h="2159">
                <a:moveTo>
                  <a:pt x="21927" y="7020"/>
                </a:moveTo>
                <a:cubicBezTo>
                  <a:pt x="22079" y="6976"/>
                  <a:pt x="22218" y="6931"/>
                  <a:pt x="22374" y="6921"/>
                </a:cubicBezTo>
                <a:cubicBezTo>
                  <a:pt x="22433" y="6921"/>
                  <a:pt x="22446" y="6930"/>
                  <a:pt x="22399" y="6995"/>
                </a:cubicBezTo>
              </a:path>
              <a:path w="1390" h="2159">
                <a:moveTo>
                  <a:pt x="21332" y="7640"/>
                </a:moveTo>
                <a:cubicBezTo>
                  <a:pt x="21614" y="7555"/>
                  <a:pt x="21886" y="7479"/>
                  <a:pt x="22175" y="7417"/>
                </a:cubicBezTo>
                <a:cubicBezTo>
                  <a:pt x="22341" y="7381"/>
                  <a:pt x="22457" y="7367"/>
                  <a:pt x="22622" y="7367"/>
                </a:cubicBezTo>
              </a:path>
              <a:path w="1390" h="2159">
                <a:moveTo>
                  <a:pt x="21729" y="7962"/>
                </a:moveTo>
                <a:cubicBezTo>
                  <a:pt x="21754" y="7929"/>
                  <a:pt x="21769" y="7903"/>
                  <a:pt x="21779" y="7863"/>
                </a:cubicBezTo>
                <a:cubicBezTo>
                  <a:pt x="21779" y="8024"/>
                  <a:pt x="21783" y="8175"/>
                  <a:pt x="21754" y="8334"/>
                </a:cubicBezTo>
                <a:cubicBezTo>
                  <a:pt x="21735" y="8409"/>
                  <a:pt x="21727" y="8468"/>
                  <a:pt x="21729" y="8409"/>
                </a:cubicBezTo>
              </a:path>
              <a:path w="1390" h="2159">
                <a:moveTo>
                  <a:pt x="22151" y="7888"/>
                </a:moveTo>
                <a:cubicBezTo>
                  <a:pt x="22172" y="7802"/>
                  <a:pt x="22297" y="7795"/>
                  <a:pt x="22374" y="7813"/>
                </a:cubicBezTo>
                <a:cubicBezTo>
                  <a:pt x="22572" y="7860"/>
                  <a:pt x="22634" y="8059"/>
                  <a:pt x="22572" y="8235"/>
                </a:cubicBezTo>
                <a:cubicBezTo>
                  <a:pt x="22493" y="8459"/>
                  <a:pt x="22239" y="8561"/>
                  <a:pt x="22051" y="8458"/>
                </a:cubicBezTo>
                <a:cubicBezTo>
                  <a:pt x="22108" y="8322"/>
                  <a:pt x="22159" y="8248"/>
                  <a:pt x="22324" y="8260"/>
                </a:cubicBezTo>
                <a:cubicBezTo>
                  <a:pt x="22484" y="8272"/>
                  <a:pt x="22544" y="8345"/>
                  <a:pt x="22622" y="8458"/>
                </a:cubicBezTo>
                <a:cubicBezTo>
                  <a:pt x="22630" y="8466"/>
                  <a:pt x="22639" y="8475"/>
                  <a:pt x="22647" y="8483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92960" y="2714760"/>
            <a:ext cx="992160" cy="625320"/>
          </a:xfrm>
          <a:custGeom>
            <a:avLst/>
            <a:gdLst/>
            <a:ahLst/>
            <a:rect l="l" t="t" r="r" b="b"/>
            <a:pathLst>
              <a:path w="2755" h="1737">
                <a:moveTo>
                  <a:pt x="21208" y="8458"/>
                </a:moveTo>
                <a:cubicBezTo>
                  <a:pt x="21291" y="8418"/>
                  <a:pt x="21366" y="8400"/>
                  <a:pt x="21456" y="8384"/>
                </a:cubicBezTo>
                <a:cubicBezTo>
                  <a:pt x="21464" y="8384"/>
                  <a:pt x="21473" y="8384"/>
                  <a:pt x="21481" y="8384"/>
                </a:cubicBezTo>
              </a:path>
              <a:path w="2755" h="1737">
                <a:moveTo>
                  <a:pt x="21034" y="9079"/>
                </a:moveTo>
                <a:cubicBezTo>
                  <a:pt x="21083" y="9098"/>
                  <a:pt x="21081" y="9090"/>
                  <a:pt x="21134" y="9103"/>
                </a:cubicBezTo>
                <a:cubicBezTo>
                  <a:pt x="21240" y="9128"/>
                  <a:pt x="21342" y="9151"/>
                  <a:pt x="21456" y="9153"/>
                </a:cubicBezTo>
                <a:cubicBezTo>
                  <a:pt x="21703" y="9158"/>
                  <a:pt x="21955" y="9151"/>
                  <a:pt x="22200" y="9128"/>
                </a:cubicBezTo>
                <a:cubicBezTo>
                  <a:pt x="22390" y="9110"/>
                  <a:pt x="22593" y="9071"/>
                  <a:pt x="22771" y="9004"/>
                </a:cubicBezTo>
                <a:cubicBezTo>
                  <a:pt x="22917" y="8949"/>
                  <a:pt x="23010" y="8864"/>
                  <a:pt x="23118" y="8756"/>
                </a:cubicBezTo>
                <a:cubicBezTo>
                  <a:pt x="23227" y="8647"/>
                  <a:pt x="23277" y="8514"/>
                  <a:pt x="23292" y="8359"/>
                </a:cubicBezTo>
                <a:cubicBezTo>
                  <a:pt x="23304" y="8232"/>
                  <a:pt x="23300" y="8114"/>
                  <a:pt x="23217" y="8012"/>
                </a:cubicBezTo>
                <a:cubicBezTo>
                  <a:pt x="23134" y="7910"/>
                  <a:pt x="23027" y="7814"/>
                  <a:pt x="22920" y="7739"/>
                </a:cubicBezTo>
                <a:cubicBezTo>
                  <a:pt x="22790" y="7647"/>
                  <a:pt x="22643" y="7666"/>
                  <a:pt x="22498" y="7615"/>
                </a:cubicBezTo>
                <a:cubicBezTo>
                  <a:pt x="22344" y="7561"/>
                  <a:pt x="22195" y="7545"/>
                  <a:pt x="22027" y="7541"/>
                </a:cubicBezTo>
                <a:cubicBezTo>
                  <a:pt x="21836" y="7537"/>
                  <a:pt x="21662" y="7588"/>
                  <a:pt x="21481" y="7640"/>
                </a:cubicBezTo>
                <a:cubicBezTo>
                  <a:pt x="21267" y="7701"/>
                  <a:pt x="21057" y="7816"/>
                  <a:pt x="20886" y="7962"/>
                </a:cubicBezTo>
                <a:cubicBezTo>
                  <a:pt x="20713" y="8110"/>
                  <a:pt x="20667" y="8277"/>
                  <a:pt x="20613" y="8483"/>
                </a:cubicBezTo>
                <a:cubicBezTo>
                  <a:pt x="20558" y="8692"/>
                  <a:pt x="20491" y="8932"/>
                  <a:pt x="20638" y="9128"/>
                </a:cubicBezTo>
                <a:cubicBezTo>
                  <a:pt x="20830" y="9383"/>
                  <a:pt x="21188" y="9256"/>
                  <a:pt x="21431" y="9203"/>
                </a:cubicBezTo>
                <a:cubicBezTo>
                  <a:pt x="21595" y="9167"/>
                  <a:pt x="21663" y="9136"/>
                  <a:pt x="21803" y="907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57920" y="4152960"/>
            <a:ext cx="2401920" cy="919080"/>
          </a:xfrm>
          <a:custGeom>
            <a:avLst/>
            <a:gdLst/>
            <a:ahLst/>
            <a:rect l="l" t="t" r="r" b="b"/>
            <a:pathLst>
              <a:path w="6673" h="2556">
                <a:moveTo>
                  <a:pt x="16446" y="12650"/>
                </a:moveTo>
                <a:cubicBezTo>
                  <a:pt x="16474" y="12641"/>
                  <a:pt x="16489" y="12630"/>
                  <a:pt x="16520" y="12601"/>
                </a:cubicBezTo>
                <a:cubicBezTo>
                  <a:pt x="16635" y="12494"/>
                  <a:pt x="16696" y="12498"/>
                  <a:pt x="16842" y="12526"/>
                </a:cubicBezTo>
                <a:cubicBezTo>
                  <a:pt x="16869" y="12715"/>
                  <a:pt x="16810" y="12812"/>
                  <a:pt x="16644" y="12923"/>
                </a:cubicBezTo>
                <a:cubicBezTo>
                  <a:pt x="16567" y="12962"/>
                  <a:pt x="16552" y="12996"/>
                  <a:pt x="16520" y="12948"/>
                </a:cubicBezTo>
                <a:cubicBezTo>
                  <a:pt x="16561" y="12847"/>
                  <a:pt x="16652" y="12793"/>
                  <a:pt x="16768" y="12849"/>
                </a:cubicBezTo>
                <a:cubicBezTo>
                  <a:pt x="16984" y="12954"/>
                  <a:pt x="16791" y="13172"/>
                  <a:pt x="16669" y="13246"/>
                </a:cubicBezTo>
                <a:cubicBezTo>
                  <a:pt x="16587" y="13295"/>
                  <a:pt x="16356" y="13412"/>
                  <a:pt x="16297" y="13295"/>
                </a:cubicBezTo>
                <a:cubicBezTo>
                  <a:pt x="16271" y="13243"/>
                  <a:pt x="16253" y="13236"/>
                  <a:pt x="16297" y="13221"/>
                </a:cubicBezTo>
              </a:path>
              <a:path w="6673" h="2556">
                <a:moveTo>
                  <a:pt x="17537" y="12675"/>
                </a:moveTo>
                <a:cubicBezTo>
                  <a:pt x="17615" y="12701"/>
                  <a:pt x="17541" y="12882"/>
                  <a:pt x="17537" y="12948"/>
                </a:cubicBezTo>
                <a:cubicBezTo>
                  <a:pt x="17530" y="13056"/>
                  <a:pt x="17539" y="13105"/>
                  <a:pt x="17487" y="13196"/>
                </a:cubicBezTo>
              </a:path>
              <a:path w="6673" h="2556">
                <a:moveTo>
                  <a:pt x="17289" y="12948"/>
                </a:moveTo>
                <a:cubicBezTo>
                  <a:pt x="17432" y="12937"/>
                  <a:pt x="17566" y="12902"/>
                  <a:pt x="17711" y="12898"/>
                </a:cubicBezTo>
                <a:cubicBezTo>
                  <a:pt x="17799" y="12895"/>
                  <a:pt x="17785" y="12872"/>
                  <a:pt x="17785" y="12898"/>
                </a:cubicBezTo>
              </a:path>
              <a:path w="6673" h="2556">
                <a:moveTo>
                  <a:pt x="18430" y="12700"/>
                </a:moveTo>
                <a:cubicBezTo>
                  <a:pt x="18465" y="12782"/>
                  <a:pt x="18470" y="12906"/>
                  <a:pt x="18430" y="12998"/>
                </a:cubicBezTo>
                <a:cubicBezTo>
                  <a:pt x="18413" y="13023"/>
                  <a:pt x="18397" y="13047"/>
                  <a:pt x="18380" y="13072"/>
                </a:cubicBezTo>
                <a:cubicBezTo>
                  <a:pt x="18514" y="13072"/>
                  <a:pt x="18646" y="13048"/>
                  <a:pt x="18777" y="13022"/>
                </a:cubicBezTo>
                <a:cubicBezTo>
                  <a:pt x="18851" y="13004"/>
                  <a:pt x="18858" y="12996"/>
                  <a:pt x="18901" y="12998"/>
                </a:cubicBezTo>
              </a:path>
              <a:path w="6673" h="2556">
                <a:moveTo>
                  <a:pt x="18827" y="12452"/>
                </a:moveTo>
                <a:cubicBezTo>
                  <a:pt x="18827" y="12597"/>
                  <a:pt x="18814" y="12754"/>
                  <a:pt x="18802" y="12898"/>
                </a:cubicBezTo>
                <a:cubicBezTo>
                  <a:pt x="18785" y="13097"/>
                  <a:pt x="18757" y="13300"/>
                  <a:pt x="18728" y="13494"/>
                </a:cubicBezTo>
                <a:cubicBezTo>
                  <a:pt x="18728" y="13519"/>
                  <a:pt x="18728" y="13527"/>
                  <a:pt x="18728" y="13543"/>
                </a:cubicBezTo>
              </a:path>
              <a:path w="6673" h="2556">
                <a:moveTo>
                  <a:pt x="19596" y="13022"/>
                </a:moveTo>
                <a:cubicBezTo>
                  <a:pt x="19688" y="13009"/>
                  <a:pt x="19782" y="12984"/>
                  <a:pt x="19869" y="12948"/>
                </a:cubicBezTo>
                <a:cubicBezTo>
                  <a:pt x="19909" y="12928"/>
                  <a:pt x="19915" y="12919"/>
                  <a:pt x="19943" y="12923"/>
                </a:cubicBezTo>
              </a:path>
              <a:path w="6673" h="2556">
                <a:moveTo>
                  <a:pt x="19645" y="13146"/>
                </a:moveTo>
                <a:cubicBezTo>
                  <a:pt x="19752" y="13146"/>
                  <a:pt x="19838" y="13113"/>
                  <a:pt x="19943" y="13097"/>
                </a:cubicBezTo>
                <a:cubicBezTo>
                  <a:pt x="19984" y="13097"/>
                  <a:pt x="19992" y="13097"/>
                  <a:pt x="20017" y="13097"/>
                </a:cubicBezTo>
              </a:path>
              <a:path w="6673" h="2556">
                <a:moveTo>
                  <a:pt x="20985" y="12551"/>
                </a:moveTo>
                <a:cubicBezTo>
                  <a:pt x="21067" y="12489"/>
                  <a:pt x="21131" y="12516"/>
                  <a:pt x="21233" y="12502"/>
                </a:cubicBezTo>
                <a:cubicBezTo>
                  <a:pt x="21386" y="12481"/>
                  <a:pt x="21532" y="12441"/>
                  <a:pt x="21679" y="12402"/>
                </a:cubicBezTo>
                <a:cubicBezTo>
                  <a:pt x="21619" y="12597"/>
                  <a:pt x="21555" y="12767"/>
                  <a:pt x="21456" y="12948"/>
                </a:cubicBezTo>
                <a:cubicBezTo>
                  <a:pt x="21377" y="13093"/>
                  <a:pt x="21325" y="13215"/>
                  <a:pt x="21282" y="13370"/>
                </a:cubicBezTo>
              </a:path>
              <a:path w="6673" h="2556">
                <a:moveTo>
                  <a:pt x="20464" y="13965"/>
                </a:moveTo>
                <a:cubicBezTo>
                  <a:pt x="20891" y="13965"/>
                  <a:pt x="21306" y="13937"/>
                  <a:pt x="21729" y="13866"/>
                </a:cubicBezTo>
                <a:cubicBezTo>
                  <a:pt x="22123" y="13800"/>
                  <a:pt x="22636" y="13708"/>
                  <a:pt x="22845" y="13320"/>
                </a:cubicBezTo>
                <a:cubicBezTo>
                  <a:pt x="23019" y="12997"/>
                  <a:pt x="22939" y="12570"/>
                  <a:pt x="22796" y="12254"/>
                </a:cubicBezTo>
                <a:cubicBezTo>
                  <a:pt x="22609" y="11840"/>
                  <a:pt x="22311" y="11667"/>
                  <a:pt x="21878" y="11584"/>
                </a:cubicBezTo>
                <a:cubicBezTo>
                  <a:pt x="21349" y="11482"/>
                  <a:pt x="20743" y="11614"/>
                  <a:pt x="20315" y="11956"/>
                </a:cubicBezTo>
                <a:cubicBezTo>
                  <a:pt x="19873" y="12310"/>
                  <a:pt x="19675" y="12903"/>
                  <a:pt x="19869" y="13444"/>
                </a:cubicBezTo>
                <a:cubicBezTo>
                  <a:pt x="20080" y="14033"/>
                  <a:pt x="20642" y="14050"/>
                  <a:pt x="21158" y="1408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60640" y="4152960"/>
            <a:ext cx="2519280" cy="1197000"/>
          </a:xfrm>
          <a:custGeom>
            <a:avLst/>
            <a:gdLst/>
            <a:ahLst/>
            <a:rect l="l" t="t" r="r" b="b"/>
            <a:pathLst>
              <a:path w="6996" h="3325">
                <a:moveTo>
                  <a:pt x="3696" y="12254"/>
                </a:moveTo>
                <a:cubicBezTo>
                  <a:pt x="3827" y="12210"/>
                  <a:pt x="3836" y="12193"/>
                  <a:pt x="3969" y="12254"/>
                </a:cubicBezTo>
                <a:cubicBezTo>
                  <a:pt x="3969" y="12446"/>
                  <a:pt x="3875" y="12491"/>
                  <a:pt x="3721" y="12601"/>
                </a:cubicBezTo>
                <a:cubicBezTo>
                  <a:pt x="3698" y="12624"/>
                  <a:pt x="3690" y="12635"/>
                  <a:pt x="3696" y="12601"/>
                </a:cubicBezTo>
                <a:cubicBezTo>
                  <a:pt x="3780" y="12576"/>
                  <a:pt x="3970" y="12534"/>
                  <a:pt x="3994" y="12675"/>
                </a:cubicBezTo>
                <a:cubicBezTo>
                  <a:pt x="4029" y="12882"/>
                  <a:pt x="3735" y="12954"/>
                  <a:pt x="3597" y="12973"/>
                </a:cubicBezTo>
                <a:cubicBezTo>
                  <a:pt x="3521" y="12983"/>
                  <a:pt x="3488" y="12993"/>
                  <a:pt x="3473" y="12948"/>
                </a:cubicBezTo>
              </a:path>
              <a:path w="6996" h="3325">
                <a:moveTo>
                  <a:pt x="4564" y="12378"/>
                </a:moveTo>
                <a:cubicBezTo>
                  <a:pt x="4585" y="12458"/>
                  <a:pt x="4619" y="12584"/>
                  <a:pt x="4614" y="12675"/>
                </a:cubicBezTo>
                <a:cubicBezTo>
                  <a:pt x="4591" y="12767"/>
                  <a:pt x="4585" y="12792"/>
                  <a:pt x="4564" y="12849"/>
                </a:cubicBezTo>
              </a:path>
              <a:path w="6996" h="3325">
                <a:moveTo>
                  <a:pt x="4266" y="12675"/>
                </a:moveTo>
                <a:cubicBezTo>
                  <a:pt x="4423" y="12649"/>
                  <a:pt x="4582" y="12649"/>
                  <a:pt x="4738" y="12626"/>
                </a:cubicBezTo>
                <a:cubicBezTo>
                  <a:pt x="4762" y="12626"/>
                  <a:pt x="4770" y="12626"/>
                  <a:pt x="4762" y="12650"/>
                </a:cubicBezTo>
              </a:path>
              <a:path w="6996" h="3325">
                <a:moveTo>
                  <a:pt x="5308" y="12328"/>
                </a:moveTo>
                <a:cubicBezTo>
                  <a:pt x="5362" y="12341"/>
                  <a:pt x="5549" y="12330"/>
                  <a:pt x="5581" y="12353"/>
                </a:cubicBezTo>
                <a:cubicBezTo>
                  <a:pt x="5581" y="12381"/>
                  <a:pt x="5579" y="12392"/>
                  <a:pt x="5556" y="12402"/>
                </a:cubicBezTo>
              </a:path>
              <a:path w="6996" h="3325">
                <a:moveTo>
                  <a:pt x="6300" y="12154"/>
                </a:moveTo>
                <a:cubicBezTo>
                  <a:pt x="6195" y="12207"/>
                  <a:pt x="6101" y="12256"/>
                  <a:pt x="5978" y="12229"/>
                </a:cubicBezTo>
                <a:cubicBezTo>
                  <a:pt x="5863" y="12204"/>
                  <a:pt x="5858" y="12253"/>
                  <a:pt x="5804" y="12378"/>
                </a:cubicBezTo>
                <a:cubicBezTo>
                  <a:pt x="5781" y="12445"/>
                  <a:pt x="5776" y="12463"/>
                  <a:pt x="5755" y="12502"/>
                </a:cubicBezTo>
                <a:cubicBezTo>
                  <a:pt x="5842" y="12502"/>
                  <a:pt x="5915" y="12480"/>
                  <a:pt x="6003" y="12477"/>
                </a:cubicBezTo>
                <a:cubicBezTo>
                  <a:pt x="6119" y="12474"/>
                  <a:pt x="6278" y="12518"/>
                  <a:pt x="6226" y="12675"/>
                </a:cubicBezTo>
                <a:cubicBezTo>
                  <a:pt x="6165" y="12856"/>
                  <a:pt x="5924" y="12821"/>
                  <a:pt x="5779" y="12824"/>
                </a:cubicBezTo>
                <a:cubicBezTo>
                  <a:pt x="5668" y="12826"/>
                  <a:pt x="5701" y="12817"/>
                  <a:pt x="5631" y="12799"/>
                </a:cubicBezTo>
              </a:path>
              <a:path w="6996" h="3325">
                <a:moveTo>
                  <a:pt x="7764" y="12774"/>
                </a:moveTo>
                <a:cubicBezTo>
                  <a:pt x="7875" y="12790"/>
                  <a:pt x="7973" y="12799"/>
                  <a:pt x="8086" y="12799"/>
                </a:cubicBezTo>
                <a:cubicBezTo>
                  <a:pt x="8127" y="12799"/>
                  <a:pt x="8169" y="12799"/>
                  <a:pt x="8210" y="12799"/>
                </a:cubicBezTo>
              </a:path>
              <a:path w="6996" h="3325">
                <a:moveTo>
                  <a:pt x="5035" y="11683"/>
                </a:moveTo>
                <a:cubicBezTo>
                  <a:pt x="5019" y="11798"/>
                  <a:pt x="4966" y="11894"/>
                  <a:pt x="4936" y="12005"/>
                </a:cubicBezTo>
                <a:cubicBezTo>
                  <a:pt x="4918" y="12074"/>
                  <a:pt x="5031" y="11978"/>
                  <a:pt x="5085" y="11931"/>
                </a:cubicBezTo>
              </a:path>
              <a:path w="6996" h="3325">
                <a:moveTo>
                  <a:pt x="5283" y="11708"/>
                </a:moveTo>
                <a:cubicBezTo>
                  <a:pt x="5259" y="11733"/>
                  <a:pt x="5251" y="11741"/>
                  <a:pt x="5234" y="11757"/>
                </a:cubicBezTo>
                <a:cubicBezTo>
                  <a:pt x="5309" y="11799"/>
                  <a:pt x="5432" y="11850"/>
                  <a:pt x="5432" y="11956"/>
                </a:cubicBezTo>
                <a:cubicBezTo>
                  <a:pt x="5432" y="12048"/>
                  <a:pt x="5306" y="12027"/>
                  <a:pt x="5259" y="12030"/>
                </a:cubicBezTo>
              </a:path>
              <a:path w="6996" h="3325">
                <a:moveTo>
                  <a:pt x="5308" y="11708"/>
                </a:moveTo>
                <a:cubicBezTo>
                  <a:pt x="5424" y="11679"/>
                  <a:pt x="5537" y="11655"/>
                  <a:pt x="5655" y="11633"/>
                </a:cubicBezTo>
              </a:path>
              <a:path w="6996" h="3325">
                <a:moveTo>
                  <a:pt x="5829" y="11534"/>
                </a:moveTo>
                <a:cubicBezTo>
                  <a:pt x="5809" y="11681"/>
                  <a:pt x="5781" y="11872"/>
                  <a:pt x="5705" y="12005"/>
                </a:cubicBezTo>
                <a:cubicBezTo>
                  <a:pt x="5688" y="12022"/>
                  <a:pt x="5672" y="12038"/>
                  <a:pt x="5655" y="12055"/>
                </a:cubicBezTo>
              </a:path>
              <a:path w="6996" h="3325">
                <a:moveTo>
                  <a:pt x="3274" y="11658"/>
                </a:moveTo>
                <a:cubicBezTo>
                  <a:pt x="3274" y="11779"/>
                  <a:pt x="3238" y="11886"/>
                  <a:pt x="3225" y="12005"/>
                </a:cubicBezTo>
                <a:cubicBezTo>
                  <a:pt x="3225" y="12063"/>
                  <a:pt x="3225" y="12072"/>
                  <a:pt x="3225" y="12105"/>
                </a:cubicBezTo>
              </a:path>
              <a:path w="6996" h="3325">
                <a:moveTo>
                  <a:pt x="3473" y="11757"/>
                </a:moveTo>
                <a:cubicBezTo>
                  <a:pt x="3516" y="11757"/>
                  <a:pt x="3754" y="11732"/>
                  <a:pt x="3746" y="11782"/>
                </a:cubicBezTo>
                <a:cubicBezTo>
                  <a:pt x="3730" y="11877"/>
                  <a:pt x="3697" y="11887"/>
                  <a:pt x="3621" y="11906"/>
                </a:cubicBezTo>
                <a:cubicBezTo>
                  <a:pt x="3629" y="11906"/>
                  <a:pt x="3638" y="11906"/>
                  <a:pt x="3646" y="11906"/>
                </a:cubicBezTo>
                <a:cubicBezTo>
                  <a:pt x="3727" y="11906"/>
                  <a:pt x="3901" y="11905"/>
                  <a:pt x="3746" y="12030"/>
                </a:cubicBezTo>
                <a:cubicBezTo>
                  <a:pt x="3643" y="12113"/>
                  <a:pt x="3606" y="12086"/>
                  <a:pt x="3522" y="12030"/>
                </a:cubicBezTo>
              </a:path>
              <a:path w="6996" h="3325">
                <a:moveTo>
                  <a:pt x="4043" y="11757"/>
                </a:moveTo>
                <a:cubicBezTo>
                  <a:pt x="4024" y="11885"/>
                  <a:pt x="4018" y="12000"/>
                  <a:pt x="4018" y="12129"/>
                </a:cubicBezTo>
              </a:path>
              <a:path w="6996" h="3325">
                <a:moveTo>
                  <a:pt x="7938" y="13816"/>
                </a:moveTo>
                <a:cubicBezTo>
                  <a:pt x="8054" y="13816"/>
                  <a:pt x="8169" y="13816"/>
                  <a:pt x="8285" y="13816"/>
                </a:cubicBezTo>
              </a:path>
              <a:path w="6996" h="3325">
                <a:moveTo>
                  <a:pt x="8285" y="14784"/>
                </a:moveTo>
                <a:cubicBezTo>
                  <a:pt x="8583" y="14810"/>
                  <a:pt x="8879" y="14807"/>
                  <a:pt x="9178" y="14784"/>
                </a:cubicBezTo>
                <a:cubicBezTo>
                  <a:pt x="9404" y="14766"/>
                  <a:pt x="9615" y="14726"/>
                  <a:pt x="9823" y="14635"/>
                </a:cubicBezTo>
                <a:cubicBezTo>
                  <a:pt x="10005" y="14555"/>
                  <a:pt x="10087" y="14440"/>
                  <a:pt x="10170" y="14263"/>
                </a:cubicBezTo>
                <a:cubicBezTo>
                  <a:pt x="10244" y="14105"/>
                  <a:pt x="10211" y="14023"/>
                  <a:pt x="10170" y="13866"/>
                </a:cubicBezTo>
                <a:cubicBezTo>
                  <a:pt x="10128" y="13703"/>
                  <a:pt x="10054" y="13666"/>
                  <a:pt x="9922" y="13568"/>
                </a:cubicBezTo>
                <a:cubicBezTo>
                  <a:pt x="9817" y="13490"/>
                  <a:pt x="9735" y="13388"/>
                  <a:pt x="9624" y="13320"/>
                </a:cubicBezTo>
                <a:cubicBezTo>
                  <a:pt x="9502" y="13245"/>
                  <a:pt x="9366" y="13183"/>
                  <a:pt x="9227" y="13146"/>
                </a:cubicBezTo>
                <a:cubicBezTo>
                  <a:pt x="9101" y="13112"/>
                  <a:pt x="8910" y="13065"/>
                  <a:pt x="8781" y="13072"/>
                </a:cubicBezTo>
                <a:cubicBezTo>
                  <a:pt x="8632" y="13080"/>
                  <a:pt x="8457" y="13111"/>
                  <a:pt x="8310" y="13146"/>
                </a:cubicBezTo>
                <a:cubicBezTo>
                  <a:pt x="8096" y="13198"/>
                  <a:pt x="7938" y="13254"/>
                  <a:pt x="7789" y="13419"/>
                </a:cubicBezTo>
                <a:cubicBezTo>
                  <a:pt x="7649" y="13574"/>
                  <a:pt x="7531" y="13751"/>
                  <a:pt x="7441" y="13940"/>
                </a:cubicBezTo>
                <a:cubicBezTo>
                  <a:pt x="7374" y="14081"/>
                  <a:pt x="7304" y="14252"/>
                  <a:pt x="7342" y="14412"/>
                </a:cubicBezTo>
                <a:cubicBezTo>
                  <a:pt x="7391" y="14618"/>
                  <a:pt x="7619" y="14745"/>
                  <a:pt x="7813" y="14784"/>
                </a:cubicBezTo>
                <a:cubicBezTo>
                  <a:pt x="8133" y="14848"/>
                  <a:pt x="8528" y="14876"/>
                  <a:pt x="8855" y="14858"/>
                </a:cubicBezTo>
                <a:cubicBezTo>
                  <a:pt x="9004" y="14850"/>
                  <a:pt x="9022" y="14819"/>
                  <a:pt x="9103" y="14784"/>
                </a:cubicBezTo>
              </a:path>
              <a:path w="6996" h="3325">
                <a:moveTo>
                  <a:pt x="8334" y="12105"/>
                </a:moveTo>
                <a:cubicBezTo>
                  <a:pt x="8299" y="12087"/>
                  <a:pt x="8206" y="12037"/>
                  <a:pt x="8136" y="12030"/>
                </a:cubicBezTo>
                <a:cubicBezTo>
                  <a:pt x="7979" y="12014"/>
                  <a:pt x="7816" y="12023"/>
                  <a:pt x="7665" y="12030"/>
                </a:cubicBezTo>
                <a:cubicBezTo>
                  <a:pt x="7487" y="12039"/>
                  <a:pt x="7383" y="12091"/>
                  <a:pt x="7218" y="12154"/>
                </a:cubicBezTo>
                <a:cubicBezTo>
                  <a:pt x="7171" y="12172"/>
                  <a:pt x="7096" y="12220"/>
                  <a:pt x="7069" y="12254"/>
                </a:cubicBezTo>
                <a:cubicBezTo>
                  <a:pt x="7031" y="12302"/>
                  <a:pt x="7051" y="12323"/>
                  <a:pt x="6970" y="12328"/>
                </a:cubicBezTo>
                <a:cubicBezTo>
                  <a:pt x="6911" y="12332"/>
                  <a:pt x="6893" y="12323"/>
                  <a:pt x="6871" y="12328"/>
                </a:cubicBezTo>
                <a:cubicBezTo>
                  <a:pt x="6863" y="12328"/>
                  <a:pt x="6854" y="12328"/>
                  <a:pt x="6846" y="12328"/>
                </a:cubicBezTo>
                <a:cubicBezTo>
                  <a:pt x="6857" y="12249"/>
                  <a:pt x="6885" y="12146"/>
                  <a:pt x="6945" y="12080"/>
                </a:cubicBezTo>
                <a:cubicBezTo>
                  <a:pt x="6953" y="12080"/>
                  <a:pt x="6962" y="12080"/>
                  <a:pt x="6970" y="12080"/>
                </a:cubicBezTo>
                <a:cubicBezTo>
                  <a:pt x="6927" y="12167"/>
                  <a:pt x="6882" y="12269"/>
                  <a:pt x="6821" y="12353"/>
                </a:cubicBezTo>
                <a:cubicBezTo>
                  <a:pt x="6777" y="12414"/>
                  <a:pt x="6739" y="12445"/>
                  <a:pt x="6821" y="12502"/>
                </a:cubicBezTo>
                <a:cubicBezTo>
                  <a:pt x="6865" y="12532"/>
                  <a:pt x="6996" y="12565"/>
                  <a:pt x="7020" y="12576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55960" y="4179960"/>
            <a:ext cx="509400" cy="990360"/>
          </a:xfrm>
          <a:custGeom>
            <a:avLst/>
            <a:gdLst/>
            <a:ahLst/>
            <a:rect l="l" t="t" r="r" b="b"/>
            <a:pathLst>
              <a:path w="1415" h="2754">
                <a:moveTo>
                  <a:pt x="8905" y="11683"/>
                </a:moveTo>
                <a:cubicBezTo>
                  <a:pt x="8853" y="11779"/>
                  <a:pt x="8804" y="11878"/>
                  <a:pt x="8781" y="11981"/>
                </a:cubicBezTo>
                <a:cubicBezTo>
                  <a:pt x="8924" y="11970"/>
                  <a:pt x="8997" y="11945"/>
                  <a:pt x="9128" y="12005"/>
                </a:cubicBezTo>
                <a:cubicBezTo>
                  <a:pt x="9145" y="12175"/>
                  <a:pt x="9005" y="12229"/>
                  <a:pt x="8830" y="12229"/>
                </a:cubicBezTo>
                <a:cubicBezTo>
                  <a:pt x="8711" y="12205"/>
                  <a:pt x="8672" y="12202"/>
                  <a:pt x="8657" y="12105"/>
                </a:cubicBezTo>
              </a:path>
              <a:path w="1415" h="2754">
                <a:moveTo>
                  <a:pt x="9004" y="11658"/>
                </a:moveTo>
                <a:cubicBezTo>
                  <a:pt x="9165" y="11622"/>
                  <a:pt x="9291" y="11600"/>
                  <a:pt x="9451" y="11633"/>
                </a:cubicBezTo>
              </a:path>
              <a:path w="1415" h="2754">
                <a:moveTo>
                  <a:pt x="8880" y="12477"/>
                </a:moveTo>
                <a:cubicBezTo>
                  <a:pt x="8964" y="12393"/>
                  <a:pt x="9034" y="12383"/>
                  <a:pt x="9153" y="12402"/>
                </a:cubicBezTo>
                <a:cubicBezTo>
                  <a:pt x="9138" y="12585"/>
                  <a:pt x="9066" y="12597"/>
                  <a:pt x="8905" y="12675"/>
                </a:cubicBezTo>
                <a:cubicBezTo>
                  <a:pt x="8888" y="12683"/>
                  <a:pt x="8872" y="12692"/>
                  <a:pt x="8855" y="12700"/>
                </a:cubicBezTo>
                <a:cubicBezTo>
                  <a:pt x="8894" y="12622"/>
                  <a:pt x="9024" y="12635"/>
                  <a:pt x="9103" y="12675"/>
                </a:cubicBezTo>
                <a:cubicBezTo>
                  <a:pt x="9120" y="12692"/>
                  <a:pt x="9136" y="12708"/>
                  <a:pt x="9153" y="12725"/>
                </a:cubicBezTo>
                <a:cubicBezTo>
                  <a:pt x="9057" y="12830"/>
                  <a:pt x="8916" y="12922"/>
                  <a:pt x="8756" y="12874"/>
                </a:cubicBezTo>
                <a:cubicBezTo>
                  <a:pt x="8709" y="12827"/>
                  <a:pt x="8691" y="12815"/>
                  <a:pt x="8731" y="12774"/>
                </a:cubicBezTo>
              </a:path>
              <a:path w="1415" h="2754">
                <a:moveTo>
                  <a:pt x="8210" y="13097"/>
                </a:moveTo>
                <a:cubicBezTo>
                  <a:pt x="8382" y="13097"/>
                  <a:pt x="8560" y="13082"/>
                  <a:pt x="8731" y="13072"/>
                </a:cubicBezTo>
                <a:cubicBezTo>
                  <a:pt x="9014" y="13055"/>
                  <a:pt x="9292" y="13047"/>
                  <a:pt x="9575" y="13047"/>
                </a:cubicBezTo>
              </a:path>
              <a:path w="1415" h="2754">
                <a:moveTo>
                  <a:pt x="8830" y="13444"/>
                </a:moveTo>
                <a:cubicBezTo>
                  <a:pt x="8851" y="13548"/>
                  <a:pt x="8836" y="13476"/>
                  <a:pt x="8855" y="13444"/>
                </a:cubicBezTo>
                <a:cubicBezTo>
                  <a:pt x="8904" y="13361"/>
                  <a:pt x="8947" y="13261"/>
                  <a:pt x="9054" y="13246"/>
                </a:cubicBezTo>
                <a:cubicBezTo>
                  <a:pt x="9223" y="13223"/>
                  <a:pt x="9410" y="13266"/>
                  <a:pt x="9451" y="13444"/>
                </a:cubicBezTo>
                <a:cubicBezTo>
                  <a:pt x="9492" y="13623"/>
                  <a:pt x="9260" y="13742"/>
                  <a:pt x="9153" y="13841"/>
                </a:cubicBezTo>
                <a:cubicBezTo>
                  <a:pt x="9033" y="13952"/>
                  <a:pt x="8913" y="14046"/>
                  <a:pt x="8830" y="14188"/>
                </a:cubicBezTo>
                <a:cubicBezTo>
                  <a:pt x="8793" y="14251"/>
                  <a:pt x="8781" y="14295"/>
                  <a:pt x="8756" y="14362"/>
                </a:cubicBezTo>
                <a:cubicBezTo>
                  <a:pt x="8765" y="14273"/>
                  <a:pt x="8775" y="14191"/>
                  <a:pt x="8830" y="14114"/>
                </a:cubicBezTo>
                <a:cubicBezTo>
                  <a:pt x="8877" y="14047"/>
                  <a:pt x="8988" y="13959"/>
                  <a:pt x="9079" y="13990"/>
                </a:cubicBezTo>
                <a:cubicBezTo>
                  <a:pt x="9163" y="14019"/>
                  <a:pt x="9170" y="14146"/>
                  <a:pt x="9277" y="14188"/>
                </a:cubicBezTo>
                <a:cubicBezTo>
                  <a:pt x="9378" y="14227"/>
                  <a:pt x="9541" y="14206"/>
                  <a:pt x="9624" y="14139"/>
                </a:cubicBezTo>
                <a:cubicBezTo>
                  <a:pt x="9616" y="14131"/>
                  <a:pt x="9607" y="14122"/>
                  <a:pt x="9599" y="14114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jective:  Students will subtract integers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y some on your own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0 – (-4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-5 -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) -12 – (-13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) 9 - (-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) –12 - (-16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it Ticke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-28 -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18 - (-16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) -45 - (-1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2:   Textbook pg. 204 15-41 odd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1:35:11Z</dcterms:created>
  <dc:creator>Brian McGrath</dc:creator>
  <dc:description/>
  <dc:language>en-US</dc:language>
  <cp:lastModifiedBy>ccps</cp:lastModifiedBy>
  <dcterms:modified xsi:type="dcterms:W3CDTF">2010-04-19T17:53:13Z</dcterms:modified>
  <cp:revision>3</cp:revision>
  <dc:subject/>
  <dc:title>Unit 12: Integers - Course 2 </dc:title>
</cp:coreProperties>
</file>